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4DC2768-315B-42C9-9FC0-0BD26D05892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90590F8-E5B3-46CA-956C-8A84EF95C2B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5A835F1-CFD6-4F3A-B716-88F6B07FD92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335E51D-438F-4BB4-BB29-F9B93A53297B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A16D54E-AAF5-4EA2-B680-8F3FCB8E697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EC6971D-A965-4885-A587-70891EDD07D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75DEA9B-9D28-4289-A978-B6FCD8038EB7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0998382-E390-4DE0-ABFB-B4474A9352A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301A0F9-C14F-4693-BE23-25B2B400468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DA8BD1D-CD8F-4400-B9EE-698D22CE95B7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9FD997F-FB02-4694-BAAD-4D601BBE13A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E1BB47D-3CAA-4FF0-BC7F-FB79C8D8460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C53C5A8-6483-49C6-94E8-A08D9ABE6CB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A9218B9-CF4E-4E44-AF35-D26A2538910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E7710FE-331A-4D70-93CD-7AA41F86069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AFFF68B-19E7-4943-9284-FD793B89E0F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AEF10D4-29A2-4AB2-9208-FC831296125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FDADADC-3FA3-4CCE-AE39-A3FC4A38CCA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901968F-6C4E-46C2-8AC6-94E045D3125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7ED8B2E-5111-4959-A446-B4D2387A476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453-4265-42C8-A127-82217047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74E-1BB3-4514-9AF7-2AFF051D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19A-6F22-4338-A46F-71E19DA6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696-E521-4547-88C4-D3F79134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BE23-BD25-4F8D-B7B5-A13AB356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8F76-55D6-471E-9EDE-6BB0F0A3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1FE0-8145-4C03-B332-08EBBA50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0E56-95AC-4E50-B91B-6ECC5C71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D372-7F53-4845-9857-F21433DD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D95F-3BB3-44FF-810F-3945DF54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3908-EA6F-4724-80B1-1AE43457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7C0-1EE3-4036-8E09-7F04BACA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D289-D6E1-4A27-BF5C-57250D3D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91FA-DCF0-4745-95F8-98387774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CB17-F2A7-4329-AC37-8E5F0988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748E-E534-4B7E-8D4B-FD96A9F8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E7E-ADEE-4DC0-901C-13148F70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865-8A4F-4704-BF37-AD09DE3A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E12-A184-4176-9F83-C460DF30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FB9-422A-44B1-9EF8-C45A27BE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314-C39D-4849-8775-AF9500FD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23F-29DE-4D93-920C-FF4E2A95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A69-891B-42E7-B988-ED4D3BCA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D59-ADF4-4E19-916A-CBBA8D38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85C9-A9B4-4E3C-9DAE-3D47B8B15F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D574-48E3-4774-9E56-B051BEC977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29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gramming Train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idd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95272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oi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ython Stat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blems with sel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3059280" y="333360"/>
            <a:ext cx="281916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inimum of two number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9640" y="1916280"/>
            <a:ext cx="79930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Example: Find the maximum/minimum value of 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f a&lt;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x=b; min=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x=a; min=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creen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screen is a rectangle of pixels on which we can dra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screen origin is usually in the cent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ach pixel will have two coordinates which are float number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44766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What can turtles (as animals) do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ove forward or backwar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urn left or righ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treat the head into the shell.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Turtle-like Graphics Pens hav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x, y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give the turtle pen coordinat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ir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the direction to go in radian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the pen’s status (pen=1 draws lin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unction to Move and Dra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orward(d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moves forward for distance d on the direction to 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backward(d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moves backward for distance on the direction to 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right(angle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turns right with angle (degre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eft(angle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turns left with angle (degre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goto(x, y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moves to the point (x,y) drawing a l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dot(size, color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draws a dot of specified size with the given col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ircle(radius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draws a circle with the specified radiu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Times New Roman"/>
              </a:rPr>
              <a:t>circle(radiu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unction to Control the p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nup(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moves up so no draw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ndown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goes down so it can dra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width(w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sets the thickness of the li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lor(colorname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color is set as color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lor(r, g, b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the color is set based on the r, g, b valu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unction to Control the Scre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bgcolor(color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the screen background color is set to colo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lear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the screen is cleared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creensize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it returns the width and the height of the scre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ow to work wit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ake a pen objec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 = Pen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et the pen features like color, width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color(‘red’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width(3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ake you drawing using the move/draw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403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hat is the outcome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788000" y="1557360"/>
            <a:ext cx="403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n be re written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i in range(4)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 – Draw a Triang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ake a pen and set some featu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raw the triangle A(x1, y1)B(x2, y2)C(x3,y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ove the pen to A(x1, y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raw AB using goto(x2, y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raw BC using goto(x3, y3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raw CA using goto(x1, y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856120" y="2565360"/>
            <a:ext cx="3287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more about if from the e-tuto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nt(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print(value1, value2,…)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int(‘var = ‘, var1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prints the text ‘var=‘ followed by the value of v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int(‘Here is a text’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prints the text ‘Here is a text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(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input() returns a str value which must be conve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 = input(‘Input a str var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reads a str value for v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 = int(input(‘Input var: ’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write the text ‘Input var: ’, then reads a str and converts that to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 Arithmet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rithmetic opera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+, -, *, /, //, 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++, -- for incrementing and decremen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% is the remainder of the integer divi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elational opera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&lt;, &gt;, &lt;=, &gt;=, ==, !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ogical: or, and,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re are several math functions in the math mod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sqrt(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sin(), math.cos(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asin(), math.acos()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to solve a probl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ind the inputs and outputs of the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sk yourself if you have done something sim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dentify the elements of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ake a numerical example and see the changes of the variab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Write the code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s - Outpu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puts are the elements / variables to start fr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Inputs must be 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Input can be arguments within func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utput(s) is represented by the problem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Outputs must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Outputs can be returned by a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Statem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statements give the flow of computation within a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imple stat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xpression - to evaluate a Python expres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lock - used to collect several statements in one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Jum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break - jumps outside of repeti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turn - gets outside of  functions/rout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imple if - selects an alternati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omplete if - selects from two alter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Block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veral lines which are identically indented form a blo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block always starts after ‘: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block is usually required 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nctions and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INDENTATION MUST BE SIMILA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84720" y="2071800"/>
            <a:ext cx="2792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ests - if statement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16000" y="1722240"/>
            <a:ext cx="2873160" cy="36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hoose between two cho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se 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e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08000" y="1722600"/>
            <a:ext cx="251928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Select one 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894280" y="1722600"/>
            <a:ext cx="29988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hoose between multipl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1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choi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if test2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 choi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if test3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 choi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55:30Z</dcterms:created>
  <dc:creator>TSG</dc:creator>
  <dc:description/>
  <dc:language>en-US</dc:language>
  <cp:lastModifiedBy>cssg</cp:lastModifiedBy>
  <cp:lastPrinted>2001-09-10T14:34:36Z</cp:lastPrinted>
  <dcterms:modified xsi:type="dcterms:W3CDTF">2015-05-15T10:41:26Z</dcterms:modified>
  <cp:revision>50</cp:revision>
  <dc:subject/>
  <dc:title>CSCI-455</dc:title>
</cp:coreProperties>
</file>