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A78A3B6-3ABC-4AD5-B4A3-B8EB9A22C56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DC1A645-1EEC-4107-AFBB-8F365782F81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998263F-521D-4326-A09A-DEA6AF5AA2B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F06AFD3-613F-46B5-ABEA-B0A87A4A443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69BA96C-9CAA-4EC9-A1B2-0DCACCB38AB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6ACBBE9-4C68-4775-94C5-708DF32F0CA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38751DD-DF16-4AF6-8FEE-A67E18FEEAE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EBC16F5-2193-4CDE-9F80-BEC80E7B2D7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3206A5E-01BB-4A64-AFB9-1DB2681DA00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88C85C-0162-4CAC-9BCF-56F7CD4AFE1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8FDF250-B32B-49A5-BB9B-1671F13E388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79F0F9B-8129-427D-8424-04D942976A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580F14C-CDBB-4449-9688-9CC2424FB3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B89EEE9-4D6F-472B-BA50-54FCE9B5A1D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AAEA7F0-8841-48E8-B5BC-C849FEA8C3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F159EE4-A807-4005-89E3-5532A622C2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EB9778B-9753-467D-9E23-6FEC3BED1F3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9A19D57-0EB6-4954-83CD-7E495AF539E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DE394E7-FF7C-4614-A2D2-ACB5C68AFA1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79B42F9-94BE-4711-B63C-493C0C02F7E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844-70AC-405F-A7F9-70E4E65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446-0E2C-415F-97BE-92866C94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D56-82EF-4F43-A189-82142623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2FB-97F6-4A40-9EAF-165BB976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8134-522E-4B04-8909-E76D23C0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583-F91A-414B-A594-F7D3D61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F45D-9263-4F8D-B60B-8F0C47D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B847-40FF-403E-82A2-33F88FE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072-AB87-4CD7-9F91-EA8F68D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281-3C28-4C27-9482-86A07E94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4D8-4969-4EAD-8108-54FE1BB7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5C4-7E77-4EF6-B606-EEDE4B3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4FD-DFAD-4061-AA06-AAEEC41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EBD-4B1C-46CE-BB9F-E0AC062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43FC-08BD-45FE-BD0A-C7564318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4E9-7AD8-4AD1-B8F2-46790FD0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EE1-06C4-4D9D-8BE3-873016EA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451-7E4E-4D4E-A74B-58A92E3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25D-FF45-4755-9411-8DB2C98E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07C-DE98-4674-B586-1C95457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358-AE3F-4773-93A1-DCF882C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3D-EB07-4386-BA2B-7323650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240-E58F-46EB-B456-8404D2E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91F-9542-4499-9388-E0C5418D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9B3E-DF54-447F-8A51-3D1F0078C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E0F2-0A9C-4E53-96FF-BC5578F5DD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29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idd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Stat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s with sel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3059280" y="33336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imum of two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xample: Find the maximum/minimum value of 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a&lt;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b; min=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a; min=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Screen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is a rectangle of pixels on which we can dra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origin is usually in the cen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pixel will have two coordinates which are float numb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476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hat can turtles (as animals) do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forward or backwar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rn left or righ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treat the head into the shel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urtle-like Graphics Pens hav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, y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ive the turtle pen coordinat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r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direction to go in radia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pen’s status (pen=1 draws li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Move and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or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forward for distance d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ack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backward for distance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righ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righ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ef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lef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goto(x, y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to the point (x,y) drawing a 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dot(size, 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dot of specified size with the given co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ircle(radius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circle with the specified radiu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Times New Roman"/>
              </a:rPr>
              <a:t>circle(radiu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p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up(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moves up so no draw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down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goes down so it can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idth(w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sets the thickness of the li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colornam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color is set as color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r, g, b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color is set based on the r, g, b valu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gcolor(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the screen background color is set to col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lear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screen is clear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creensize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it returns the width and the height of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work wit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= Pen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et the pen features like color, width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color(‘red’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width(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you drawing using the move/draw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403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at is the outcome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788000" y="1557360"/>
            <a:ext cx="403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be re writte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i in range(4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ython Turtle – Draw a Triang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and set som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 the triangle A(x1, y1)B(x2, y2)C(x3,y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the pen to A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AB using goto(x2, y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BC using goto(x3, y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CA using goto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856120" y="2565360"/>
            <a:ext cx="3287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if from the e-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print(value1, value2,…)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var = ‘, var1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var=‘ followed by the value of 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Here is a text’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Here is a text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put() returns a str value which must be conv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put(‘Input a str var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a str value for v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t(input(‘Input var: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write the text ‘Input var: ’, then reads a str and converts that to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 Arithmet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, -, *, /, //, 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+, -- for incrementing and decremen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% is the remainder of the integer divi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ogical: or, and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re are several math functions in the math mo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qrt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in(), math.cos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asin(), math.acos()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to solve a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ind the inputs and outputs of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ake a numerical example and see the changes of the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the cod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s - Outpu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puts are the elements / variables to start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s must be 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 can be arguments within func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utput(s) is represented by the problem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must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can be returned by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Statem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statements give the flow of computation within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imple stat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xpression - to evaluate a Python expres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lock - used to collect several statements in one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Jum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reak - jumps outside of repeti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turn - gets outside of  functions/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if - selects an altern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lete if - selects from two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Bloc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veral lines which are identically indented form a blo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always starts after ‘: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is usually required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s and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DENTATION MUST BE SIMILA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84720" y="2071800"/>
            <a:ext cx="2792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ests - if stateme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16000" y="1722240"/>
            <a:ext cx="2873160" cy="36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two 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se 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08000" y="1722600"/>
            <a:ext cx="251928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elect one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894280" y="1722600"/>
            <a:ext cx="29988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multipl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cho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2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5-05-15T10:41:26Z</dcterms:modified>
  <cp:revision>50</cp:revision>
  <dc:subject/>
  <dc:title>CSCI-455</dc:title>
</cp:coreProperties>
</file>