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85A2F0C-CA5B-473B-B343-2673F9A8EED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72D4672-98B7-4487-BD9A-F9B0AE319ED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847B8E4-F3A4-4506-BA73-B2DEDA74AFA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5CD4ECE-CD01-4DF1-A93C-70E81191A67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5CF5BA6-9F9A-46ED-B101-EE7FA0E04F6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997A7DB-0E7C-4C7E-9E0E-605C725D25E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D433F96-FB09-4F5B-9AC0-87CCBCD22DF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D427C32-7EB1-44DC-AD99-448BC8D4AED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02A1267-0D8C-401E-B9DE-85E59ECE213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8AA3C27-E3FE-4B7C-B9B7-4200CEF6191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B0B9F6D-D26F-46A1-A196-987719C94CC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D04D33A-20C5-4AC5-AF84-2DCC924526C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70DE775-6869-444C-BF82-2585D1178FF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6B51B16-2282-479C-A400-F98A170DECC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588958C-04B6-42B8-9445-54AC35CDCDA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93BE0C2-A784-4A6A-AD8E-56AA7091A93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EFDC2A8-1F44-430C-8D12-D156A718488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5675774-CD7E-4A6F-A674-BA0CD8E7486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654B111-A5CC-436E-9608-EA41DEA64B3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503A35B-9E6C-4DE0-BDC4-C0F2CE8B56C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05D-57EC-47F4-9AFB-4D61B909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1E7-B0C5-46DC-A03E-93F8093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75F-BF98-422D-819E-A2B1FF34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6F9-5A69-4FA3-8A4C-FDF614B3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9A7A-3F72-44B5-9345-63C18619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FB24-D1A2-4FB3-AD28-834C0D1A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C486-838D-49B3-B3BB-77ECC0E4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37D-5873-4800-AFAD-F60CAC58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9339-CBF2-4896-A8A2-41879916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6E66-B841-413A-A59D-D31002DC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1313-2FA4-441B-801D-3FA8B88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AE3-AE42-428B-91C7-74973942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4E06-5B7F-4282-9767-23E2545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58A9-EDAE-4F69-8509-71480E0B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8599-C3F7-4FB4-ACC3-7771346B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C3AD-5823-4524-B23E-68B6E6BC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735-CB3E-4978-835F-782E346B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075-EECC-40D4-975B-197275DA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A5E-6FB5-4B68-8201-ED81961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76A-1A96-41DB-9A6A-EFA82AD6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C42-9640-40FC-889B-5F636B5B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6F7-A6FC-454E-9873-69863EA3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5BF-D77E-440C-938E-A1F72E6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0C8-1D8B-45B5-94A2-95627CFE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293D-8E39-4798-B111-6263F2ADFC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D8E9-CECF-48D3-9F8A-054F64D97B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nster Programming Train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idd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78136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2340000" y="2997360"/>
            <a:ext cx="4464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float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float values are number with a decimal poin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float values are represented with “some exact decimal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operators ar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-, *, / for the main arithmetical operation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for the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 of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58323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a=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b=3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a, 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c=a/b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c=a//b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516720" y="1413000"/>
            <a:ext cx="280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6769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are Python identifies which carry a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 are all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s must be initialised / assign value befor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a+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 =100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2800440" cy="4334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214360" y="3284640"/>
            <a:ext cx="4437360" cy="192276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assign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1, var2 = value1, valu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561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) is to print any value or variable from the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a)       # prints the variable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a,b,c) # prints the variables a,b,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‘hello python’) # print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‘a=‘,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the text ‘a=‘ then the value of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763640" y="2349360"/>
            <a:ext cx="3960720" cy="8254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v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var1, var2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4190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920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() is to read from keyboard until press ‘enter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returns a string / text value with what it has ty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=input()    # read a value and assign it to 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=input(‘input value for a’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print the text and read the val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1770120" y="2924280"/>
            <a:ext cx="5978520" cy="8254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= input(‘message to print before typ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67160" y="4708440"/>
            <a:ext cx="38768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lue Conver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920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() always returns a str valu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is possible using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onverts value to the specified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 = ‘123’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a is a str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b = int(a)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b is an int variable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int(input(‘type the value of a; ’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4067280" y="2325600"/>
            <a:ext cx="172224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(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95640" y="4581360"/>
            <a:ext cx="331308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type(input(‘var=‘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a Python program lik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248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ctions of a Python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mport libraries decl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ef functionName(a1,a2,…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n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ne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155736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A Python program is made of some functions that can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8360" y="566100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Any function can be called / executed on the interpr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5364000" y="2228760"/>
            <a:ext cx="36226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788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Python program to find the area of a rectangle if the sides are know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put Variables: w, h as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utput Variables: per, area a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er = 2*w + 2*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rea = w*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 with one fun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put a,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lculate per,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 x1, x2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78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179280" y="1427040"/>
            <a:ext cx="4248360" cy="5424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4643280" y="1427040"/>
            <a:ext cx="46753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Chapter 3 from the Python tu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Python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s a programming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communicates to the computers what to do “line after line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interprets each line from the natural language to the computer langu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solves various problems from scientific to enterta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Pyth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6707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UI tool to develop and interpret Python modu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wo different wind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terpreter windows for exec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diting window for developing / writing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8440" y="3584520"/>
            <a:ext cx="4759560" cy="228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811760" y="3584520"/>
            <a:ext cx="4356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a Python Program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s are sequence of lines described in a “natural languag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se line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key words e.g. def, import, if, for, range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identifiers (names) for variables, methods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values for numbers or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expr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se lines are written with a certain semant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One action / statement per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Times New Roman"/>
              </a:rPr>
              <a:t>Use of indentation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Com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comments are lines that are not interpreted / execu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ments are for ourselves to give information / explanation about the cod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make a line com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’ ’ ’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omething in between these represents a block comme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’’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block comment at the beginning of a method generates document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e can read it in the interpreter window as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Keywor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62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Keywords are reserved word for Python statements, datatypes etc.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ata types: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int, float, str, et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tements: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if, while, for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se words cannot be used as user names / identifier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22360" y="3573360"/>
            <a:ext cx="741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Identifi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dentifiers are names for Python variables, function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ules to name an ident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only letters and digits 0-9 and _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start with a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use Python Key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is case sensitive so pay attention to letter capitalis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olden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meaningful names formed with multiple wo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rt the first word with low case letter and any subsequent word with capital e.g. solveEquation, profitRate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Valu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represent integer or real numbers, or text Python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can b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eger) - sequence of digits e.g. 100, 0, 123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float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real numbers) - sequence of digits with a decimal point e.g. 1.0, 1.2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ing of characters) or text – sequence of characters between ’ 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datatypes are int, float and st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can be used in Python expres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int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nt values are integers between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147483648 to 214748364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 use operators and brackets (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operators ar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-, *, / for the main arithmetical operation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for the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for the results of the integer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for the remainder of the integer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5-05-01T12:25:05Z</dcterms:modified>
  <cp:revision>42</cp:revision>
  <dc:subject/>
  <dc:title>CSCI-455</dc:title>
</cp:coreProperties>
</file>