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EBCAA65-C0DD-4EFD-BB1E-461D07FB161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B642C43-3C20-402D-B0F8-A5F74CF76D6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DA28029-2B3E-4C57-B6FD-6506A95F677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12CE6FC-74E2-4823-8C9D-B7E7481563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3A8297A-9C0E-440D-9AE7-EF37A7E62D9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B74F0D1-CFBA-4863-B7AF-3A78984BB63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85BA379-267B-47F6-85A4-4D5106E9553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38E4430-9CF8-4AB5-974C-E1AA69D57E8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34EDADD-007E-4423-8435-1D872A3B842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CDFFABE-3F18-4F44-8B3E-5995E2BDA6B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B8EB8F6-638F-4C02-8F70-1984C6684A7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6E5CFD6-2DF6-4A1E-B1C3-E1628A1537C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4892270-2666-46A2-98B0-55C9B57636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6DD2FB3-9916-413D-9E60-FBB1F2B04AB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4C1E6CA-1546-4AC8-8C5F-347362808EB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677697A-19B6-4BF6-AFEA-2259E95972D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4504EE1-6BD3-4173-8C52-3BB95A19139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55D0B42-36A4-4115-B9DB-0E9783606A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49C1EE8-6D42-4758-AA7B-F951F151CB7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8B9062C-605D-4239-A796-50A03D16BF6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27F-2832-45C9-BE12-1578C161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778-A53E-484A-8E74-2BF6FC27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7F3-A3DA-4A78-B0DE-D222D845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0B0-6237-4B87-BC8D-007AB8C3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9DB-7D87-4092-BB09-0AB979D9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5086-63F4-4357-97C1-CB705B8E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D2EB-FA4C-4A2F-A58E-F7FD4A72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7321-7CB1-439E-9405-BEC127AA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155A-4BE4-49C3-A136-00AE8207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EFDC-ECB1-47D8-B17A-D405639D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53AB-4ABF-4891-BDA5-2EBDE13E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EE6-D54E-42AF-9100-E9575EA5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A671-4642-491E-B74E-FE0A33E7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CF82-5307-49B4-A82A-F11EAD2E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9536-B45E-4037-AB10-397EE212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4752-3259-42F4-B47B-B51FA4D3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3DBD-9637-4830-AEAD-49FDB7C3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165-C070-4BD3-9A15-792B5F0B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14F-4398-41C3-A7BA-06FC0433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34E-20E1-446E-883E-A0B0BB01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6C2-E540-4ABB-BAED-88953C5B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31C-3B29-4E22-B8CF-324EC71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BF7-4A86-4F0D-AA7E-07F7C6D8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E19-292B-42D5-83CC-13C068C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C944-74D1-43B2-AEB9-7A11FEFF44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A36-42E0-429C-8E59-9A49268D88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nster Programming Train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idd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78136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2340000" y="2997360"/>
            <a:ext cx="4464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float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float values are number with a decimal point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float values are represented with “some exact decimal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operators ar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 -, *, / for the main arithmetical operation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for the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 of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58323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a=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b=3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a, 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c=a/b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c=a//b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516720" y="1413000"/>
            <a:ext cx="280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6769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are Python identifies which carry a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 are all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s must be initialised / assign value befor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a+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 =100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2800440" cy="4334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214360" y="3284640"/>
            <a:ext cx="4437360" cy="192276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assign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1, var2 = value1, valu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561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) is to print any value or variable from the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a)       # prints the variable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a,b,c) # prints the variables a,b,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‘hello python’) # print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‘a=‘,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the text ‘a=‘ then the value of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763640" y="2349360"/>
            <a:ext cx="3960720" cy="8254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v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var1, var2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4190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920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() is to read from keyboard until press ‘enter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returns a string / text value with what it has ty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=input()    # read a value and assign it to 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=input(‘input value for a’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print the text and read the val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1770120" y="2924280"/>
            <a:ext cx="5978520" cy="8254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= input(‘message to print before typ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67160" y="4708440"/>
            <a:ext cx="38768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alue Conver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920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() always returns a str valu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is possible using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onverts value to the specified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 = ‘123’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a is a str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b = int(a)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b is an int variable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int(input(‘type the value of a; ’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4067280" y="2325600"/>
            <a:ext cx="172224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(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95640" y="4581360"/>
            <a:ext cx="331308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type(input(‘var=‘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a Python program lik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248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ctions of a Python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mport libraries decl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nction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ef functionName(a1,a2,…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n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ne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155736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A Python program is made of some functions that can b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8360" y="566100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Any function can be called / executed on the interpr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5364000" y="2228760"/>
            <a:ext cx="36226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788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Python program to find the area of a rectangle if the sides are know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put Variables: w, h as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utput Variables: per, area a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er = 2*w + 2*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rea = w*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program with one fun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put a,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lculate per,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 x1, x2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78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179280" y="1427040"/>
            <a:ext cx="4248360" cy="5424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4643280" y="1427040"/>
            <a:ext cx="46753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Chapter 3 from the Python tuto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Python?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s a programming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communicates to the computers what to do “line after line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interprets each line from the natural language to the computer langu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solves various problems from scientific to enterta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Pyth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6707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UI tool to develop and interpret Python modu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wo different wind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terpreter windows for exec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diting window for developing / writing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8440" y="3584520"/>
            <a:ext cx="4759560" cy="228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811760" y="3584520"/>
            <a:ext cx="4356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a Python Program?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programs are sequence of lines described in a “natural language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se line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key words e.g. def, import, if, for, range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identifiers (names) for variables, methods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values for numbers or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expre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se lines are written with a certain semant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One action / statement per 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Times New Roman"/>
              </a:rPr>
              <a:t>Use of indentation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Com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comments are lines that are not interpreted / execu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ments are for ourselves to give information / explanation about the cod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make a line com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’ ’ ’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omething in between these represents a block commen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’’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block comment at the beginning of a method generates document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e can read it in the interpreter window as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Keywor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62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Keywords are reserved word for Python statements, datatypes etc.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ata types: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int, float, str, et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tements: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if, while, for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se words cannot be used as user names / identifier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22360" y="3573360"/>
            <a:ext cx="7410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Identifi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dentifiers are names for Python variables, function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ules to name an ident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 only letters and digits 0-9 and _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start with a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use Python Key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is case sensitive so pay attention to letter capitalis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olden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 meaningful names formed with multiple wo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rt the first word with low case letter and any subsequent word with capital e.g. solveEquation, profitRate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Valu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represent integer or real numbers, or text Python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can b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eger) - sequence of digits e.g. 100, 0, 123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float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real numbers) - sequence of digits with a decimal point e.g. 1.0, 1.2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ing of characters) or text – sequence of characters between ’ 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datatypes are int, float and st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can be used in Python expres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int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nt values are integers between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147483648 to 214748364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 use operators and brackets (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operators ar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 -, *, / for the main arithmetical operation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for the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for the results of the integer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for the remainder of the integer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30Z</dcterms:created>
  <dc:creator>TSG</dc:creator>
  <dc:description/>
  <dc:language>en-US</dc:language>
  <cp:lastModifiedBy>cssg</cp:lastModifiedBy>
  <cp:lastPrinted>2001-09-10T14:34:36Z</cp:lastPrinted>
  <dcterms:modified xsi:type="dcterms:W3CDTF">2015-05-01T12:25:05Z</dcterms:modified>
  <cp:revision>42</cp:revision>
  <dc:subject/>
  <dc:title>CSCI-455</dc:title>
</cp:coreProperties>
</file>