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F6E7-62E3-4DBC-A8C7-72DF89C2825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EA5D-6684-441D-9EF8-A4FEF697FE5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C1E2-C705-40A4-B7CE-D36BA1E5961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C530-1D2D-4961-B9F9-B9DA08C83D2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336B-C3D1-4E32-8338-336DAC1FF0A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BFC3-571F-4ED2-BC08-E0711BC49A8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398-EADD-4DD5-8BDD-3203C5989C5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A8AF-02E6-4DFE-8199-63426924B0B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6389-9665-489C-8001-745DC664C40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2B8F-C83B-47AF-A3EF-7082E99B893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68DF-40B1-464E-B075-EF1C22F44CB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D36E-F8F0-4151-BF23-AAE1A3EB44F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AC8-5BA4-4451-8EDF-C5F90F0E775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2D72-5E44-46BF-8DE8-3E6E02625A0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5393-0866-4C7B-AFC1-46BA08CA75C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256F-DC97-4CAF-88F5-73D5DD8FA9A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676-7885-4E09-ADBE-A9CF19007A4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D00A-F73E-4C31-A127-70F2650B790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6AB8-4701-4E46-AC10-D641E8B634E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58EA-ECF1-46A8-A54B-93CA1B1B1BC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C44-9783-4506-81D9-9E48E04F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71A-412A-4EFB-9226-3ADBC52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C65-8374-43DA-8DA7-268BC701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9A4-C7FF-4409-A0BD-14C23157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1AB8-1542-4737-A804-7071F235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A34F-3C38-4EC5-9523-5F44342B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1136-88E4-4A1C-9568-E4DCACAA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7519-6AA0-4E3E-89EB-88028DB1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56DD-503F-4EE8-8D8A-AF04462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B45B-72D4-4583-9EE1-74FA1EC6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544D-5C46-4A49-8742-B9A4B7DF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AAD-1483-4896-9C33-187E4FF8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B99C-D3B6-47D7-98DF-B769B1EC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2B92-CAF5-44DA-8F1A-D38B7B66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DE10-6026-4E67-9B6A-D8812DF1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DF72-62B1-4ACB-AD48-60C8E547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8C77-5934-401D-823D-EBEA9C55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C96-7B9F-4DCC-B4EF-CE6E81EE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2C0-47CC-49A5-93F0-1EBE4555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4E5-E8F8-446C-8ADB-0F4F62E5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9EA-B6E3-4EF4-80E6-DEF86D50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196-ED1E-4295-88F8-6CDB8A3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B6F-F5AA-495B-BAEF-5EB7118D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D1B-145C-4FC7-BE4F-48B45AFA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3D78-C007-4930-8FD6-B3A8561426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89AB-B870-4A85-9D88-082AE01D42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95272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oi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re Fundamental algorithms on Array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ading / Writing from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blem Solv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990720" y="380880"/>
            <a:ext cx="2819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 a Li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uppose that we need a list with int ele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 Python approach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read some elements and make an array of strings from th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convert them to a sequence of int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make a list from this seque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71640" y="2133720"/>
            <a:ext cx="4753080" cy="82548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 = input(‘type elements: ’).spl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 = list(map(int, 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nt a Li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uppose that we have a list with n int ele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use a for loop to print each e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This scheme will work for any programming langua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nt(l[i], end = ‘ ‘) printing on the same li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print(l)   </a:t>
            </a:r>
            <a:r>
              <a:rPr b="1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 the whole list is printed between [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770200" y="2492280"/>
            <a:ext cx="4753080" cy="155700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 = len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(l[i], end = ‘ ‘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summation 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The summation problem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If a=[a[0], a[1], …, a[n-1]] is a list with n elements find sum = a[0]+a[1]+…+a[n-1]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a=[a[0], a[1], …, a[n-1]]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How to do i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1. (initialization) sum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2. (repetition) repeat for i=0,1,2,…,n-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crease s with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or the multiplication problem we have the ste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1. (initialization) p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2. (repetition) repeat for i=0,1,2,…,n-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crease p by 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1760" y="691920"/>
            <a:ext cx="3733560" cy="4392360"/>
          </a:xfrm>
          <a:prstGeom prst="rect">
            <a:avLst/>
          </a:prstGeom>
          <a:solidFill>
            <a:srgbClr val="ffcc00">
              <a:alpha val="62000"/>
            </a:srgbClr>
          </a:solidFill>
          <a:ln w="9360">
            <a:solidFill>
              <a:srgbClr val="000000">
                <a:alpha val="94000"/>
              </a:srgbClr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 listSum(a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len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initialise 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traverse the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= sum +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end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end list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029200" y="685800"/>
            <a:ext cx="3733920" cy="4398840"/>
          </a:xfrm>
          <a:prstGeom prst="rect">
            <a:avLst/>
          </a:prstGeom>
          <a:solidFill>
            <a:srgbClr val="ffcc00">
              <a:alpha val="62000"/>
            </a:srgbClr>
          </a:solidFill>
          <a:ln w="9360">
            <a:solidFill>
              <a:srgbClr val="000000">
                <a:alpha val="9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 listProduct(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len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initialise p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traverse th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 = prod * a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end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p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end list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maximum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The maximum problem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f a = [a[0], a[1], …, a[n-1]] is a list with n elements find the maximum element max and the position which holds 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a=[a[i], i=0,1,…,n-1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max and 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How to do i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1. (initialization) max=-infinity; pos=-1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2. (repetition) repeat for i=0,1,2,…,n-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est max against a[i]; if defeated change max and p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61760" y="549360"/>
            <a:ext cx="3733560" cy="59752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>
                <a:alpha val="90000"/>
              </a:srgbClr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 listMax(a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len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initialise max, p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x = -1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 = 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traverse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i in range(n)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max &lt; a[i]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x = a[i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 = 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endf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max, p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end listProdu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952880" y="533520"/>
            <a:ext cx="3733920" cy="59752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 listMin(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len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initialise max, 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 = 1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traverse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i in range(n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min &gt; a[i]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 = 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 =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end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min, 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end list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unting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The counting problem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f a [a[0], a[1], …, a[n-1]]  is a list with n elements find the number of elements that satisfy a condition 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a= [a[0], a[1], …, a[n-1]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n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How to do i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1. (initialization) nr=0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2. (repetition) repeat for i=0,1,2,…,n-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est if a[i] satisfies C and then increase n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1760" y="1676160"/>
            <a:ext cx="5105160" cy="4632120"/>
          </a:xfrm>
          <a:prstGeom prst="rect">
            <a:avLst/>
          </a:prstGeom>
          <a:solidFill>
            <a:srgbClr val="ffcc00">
              <a:alpha val="53000"/>
            </a:srgbClr>
          </a:solidFill>
          <a:ln w="9360">
            <a:solidFill>
              <a:srgbClr val="000000">
                <a:alpha val="90000"/>
              </a:srgbClr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NT HOW NAMY NUMBERS ARE POSI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def listPositiveCount(a)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n = len(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initialise cou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count =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traverse the li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for i in range(n)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if a[i] &gt; 0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count = count 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end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endf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return cou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end listProdu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Appro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f a [a[0], a[1], …, a[n-1]] is a list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ax(a)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maximum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in(a) 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minimum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m(a) 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the sum of the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about list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nctions in Pyth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Python program is a sequence of a functions which can be execut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Function = Routine = Procedure = Method = Solution for a sub-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Python function is written once and used/called as many times as nee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def function_name(arg1, arg2,…):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s to find the outpu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return outpu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1. function_name is the name of the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2. arg1, arg2,…are the function arguments (usually the input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3. the function body must find the output and return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403280" y="3429000"/>
            <a:ext cx="3097440" cy="1008000"/>
          </a:xfrm>
          <a:prstGeom prst="rect">
            <a:avLst/>
          </a:prstGeom>
          <a:solidFill>
            <a:srgbClr val="bf9900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eps to work with func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1. Define these functions you want to work wit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Start from the arguments as inpu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Give the sequence of statements to construct the output 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Return the output 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2. Call a function at any time you ne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The call is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function_name(a1,a2,…)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and returns a value that can b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a1, a2,… are the actual/current arg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Actual arguments are NOT change after the call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ven if they change in the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ython lists represent sequence of [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imilar]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ele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between [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separated by 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which are i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ndexed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[ ] </a:t>
            </a:r>
            <a:r>
              <a:rPr b="1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 represents lists / array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x = [1, 2, 3, 1, 0] </a:t>
            </a:r>
            <a:r>
              <a:rPr b="0" lang="en-I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 list of 5 int numb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name = [‘s’, ’a’, ’b’, ’i’, ’n’] </a:t>
            </a:r>
            <a:r>
              <a:rPr b="0" lang="en-I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 list of 5 string ele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list = [1, 2, ‘sabin’, [0, 1, 3]] </a:t>
            </a:r>
            <a:r>
              <a:rPr b="0" lang="en-I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 list with elements of different natur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 Indexing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ython lists elements can be indexed using indices 0, 1, 2, 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 list l with n elements has the elements 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[0], l[1], l[2],…, l[n-1]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 represents the list while l[i] is an element of the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the first element of the list is indexed with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it is possible to have negative index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For a list l, the number of elements is given by the function le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len(l) </a:t>
            </a:r>
            <a:r>
              <a:rPr b="0" lang="en-I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number of elements in l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ANY COMPUTATION WITH ARRAYS MUST USE THE LOOP FOR.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 Slicing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ython lists can be sliced indices using a range introduced by ‘:’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 list l with n elements has the elements 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[0], l[1], l[2],…, l[n-1]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licing Typ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i1 : i2]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with all the elements between i1 and i2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i1:]   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with all the elements from index i1 to the e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:i2]   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with all elements from 0 to i2-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:]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with all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::-1]  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in reverse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 Oper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 opera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1 + list2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concatenates the lists.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1 * nr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list1 clones nr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lem in list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ests if elem is i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en(l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length of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max(l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maximum element of a list  min(l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minimum e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(sequence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converts the sequence to a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.append(elem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appends elem to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.insert(index, elem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inserts elem to the list at the specified inde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.count(elem)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counts how many times elem is in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.index(elem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returns the first index of elem in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 Traversal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ANY COMPUTATION WITH  LIST MUST USE THE LOOP FOR.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ays to traverse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1) Traverse the list as it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2) Traverse the list ele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3851280" y="2492280"/>
            <a:ext cx="4233960" cy="155700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or elem in 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process 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85480" y="4581360"/>
            <a:ext cx="4184280" cy="192276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 = len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process the element l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 a Li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uppose that we need a list with n int ele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ad the number of elements in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read n elements using a for loo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This scheme will work for any programming langua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771640" y="2852640"/>
            <a:ext cx="4753080" cy="228852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 = int(input(‘’n=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 =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lem = int(inpu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.append(e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6:35:22Z</dcterms:created>
  <dc:creator>TSG</dc:creator>
  <dc:description/>
  <dc:language>en-US</dc:language>
  <cp:lastModifiedBy>cssg</cp:lastModifiedBy>
  <cp:lastPrinted>2001-09-10T14:34:36Z</cp:lastPrinted>
  <dcterms:modified xsi:type="dcterms:W3CDTF">2017-01-06T12:24:42Z</dcterms:modified>
  <cp:revision>47</cp:revision>
  <dc:subject/>
  <dc:title>CSCI-455</dc:title>
</cp:coreProperties>
</file>