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48A9-EAC8-45CE-9498-03AE22D6C0A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1DCB-3892-4F29-AD7C-F00C0EE531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2B9-F807-42EC-AC2F-7A386E8F2B1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40D8-FE3F-4CF0-BF95-63D821869C2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BE3E-1D75-442E-B4DA-0F23F41F8B0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2785-D9EE-40C3-84CD-5E322E8C698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85FD-0EF2-42C9-BA79-D91552845E1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B1D-B94A-4FE6-98B2-37C3781F376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3168-E1C3-42BD-9834-BF0CA98C181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00FB-AE6C-4F7A-BA82-227CCF283C2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7E4D-9E8A-4F75-8D72-32AFA22ACC4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5863-7CE3-4DFC-B843-1FBC5FDB34D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4815-1B89-442F-A223-427ACE00B72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8FD6-0562-4B44-B275-8577C6E554E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C30-AA04-465B-BE74-C021ABD8101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88D6-E3AB-436A-89D7-44CAF5AAC61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D0AD-C7C2-427F-852D-C491FAE88F1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BD06-F4B7-4793-8B94-A125D48DF1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CF12-7880-494E-AA30-14DF2788CC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03FF-107B-4F84-8B29-4EA78340284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488-8FC9-4B0C-A775-0F47724B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FFA-8486-42AE-B431-1021375C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F45-A375-41D8-92B2-D36B9E1D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900-5836-4BF8-9161-5261A644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B16C-DB6B-4845-8005-151D4395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E53-F9C3-4B4D-B94B-049F14D4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F380-1DAA-44B8-9F0E-A93CB9E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FFCD-D3FB-48D0-85B8-DE656F06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B44C-2329-488D-BC75-D8F0A50D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73B3-C603-4671-A199-53B6B72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45E1-9A26-40E4-9D69-136CD64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FBA-7165-4D77-9AC1-A2DAC568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C5A1-4E21-4809-9D38-7C44F3D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B2C-8A55-46CE-81ED-EC224E96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35B3-5668-4374-ADB7-3ED7CB47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6EC1-864F-411F-B3B0-F9A23222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6E09-8143-4CC2-8143-9D15ECD7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4AA-40E0-4114-BB14-5CD418E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B67-D97F-43F5-830D-A53D99A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F39-CAFE-4650-B7B4-453BD27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1D6-5ED0-4294-8326-CBF56E0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81E-9A67-4E4E-B4D2-78878CC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F39-8C60-44E9-A2D9-8834BD6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383-0D68-4CDE-B39F-FCAA927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D27-3C1D-4EA4-9EC6-D80700B1B6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A0F0-4CEF-412A-9AD4-BF216858CB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re Fundamental algorithms on Array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ading / Writing from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blem Solv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 a Li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uppose that we need a list with int el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Python approach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read some elements and make an array of strings from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convert them to a sequence of int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make a list from this seque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71640" y="2133720"/>
            <a:ext cx="4753080" cy="82548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 = input(‘type elements: ’).spl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 = list(map(int, 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nt a Li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uppose that we have a list with n int el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use a for loop to print each e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his scheme will work for any programming langua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l[i], end = ‘ ‘) printing on the same li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print(l)   </a:t>
            </a:r>
            <a:r>
              <a:rPr b="1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the whole list is printed between [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770200" y="2492280"/>
            <a:ext cx="4753080" cy="155700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 = len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(l[i], end = ‘ ‘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ummation 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The summation problem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If a=[a[0], a[1], …, a[n-1]] is a list with n elements find sum = a[0]+a[1]+…+a[n-1]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=[a[0], a[1], …, a[n-1]]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How to do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sum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crease s with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or the multiplication problem we have the ste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p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crease p by 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691920"/>
            <a:ext cx="3733560" cy="4392360"/>
          </a:xfrm>
          <a:prstGeom prst="rect">
            <a:avLst/>
          </a:prstGeom>
          <a:solidFill>
            <a:srgbClr val="ffcc00">
              <a:alpha val="62000"/>
            </a:srgbClr>
          </a:solidFill>
          <a:ln w="9360">
            <a:solidFill>
              <a:srgbClr val="000000">
                <a:alpha val="94000"/>
              </a:srgbClr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 listSum(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len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initialise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verse the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= sum +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 list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029200" y="685800"/>
            <a:ext cx="3733920" cy="4398840"/>
          </a:xfrm>
          <a:prstGeom prst="rect">
            <a:avLst/>
          </a:prstGeom>
          <a:solidFill>
            <a:srgbClr val="ffcc00">
              <a:alpha val="62000"/>
            </a:srgbClr>
          </a:solidFill>
          <a:ln w="9360">
            <a:solidFill>
              <a:srgbClr val="000000">
                <a:alpha val="9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 listProduct(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len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initialise 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traverse th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 = prod * a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end list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aximum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The maximum problem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 a = [a[0], a[1], …, a[n-1]] is a list with n elements find the maximum element max and the position which holds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=[a[i], i=0,1,…,n-1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max and 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How to do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max=-infinity; pos=-1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est max against a[i]; if defeated change max and p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1760" y="549360"/>
            <a:ext cx="3733560" cy="59752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>
                <a:alpha val="90000"/>
              </a:srgbClr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 listMax(a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len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initialise max, p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 = -1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traverse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i in range(n)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max &lt; a[i]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 = a[i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f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max, p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 listProdu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952880" y="533520"/>
            <a:ext cx="3733920" cy="59752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 listMin(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len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initialise max,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 = 1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traverse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i in range(n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min &gt; a[i]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 = 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 =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min,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end list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unting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The counting problem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 a [a[0], a[1], …, a[n-1]]  is a list with n elements find the number of elements that satisfy a condition 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puts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= [a[0], a[1], …, a[n-1]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n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How to do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1. (initialization) nr=0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ep 2. (repetition) repeat for i=0,1,2,…,n-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est if a[i] satisfies C and then increase n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5105160" cy="4632120"/>
          </a:xfrm>
          <a:prstGeom prst="rect">
            <a:avLst/>
          </a:prstGeom>
          <a:solidFill>
            <a:srgbClr val="ffcc00">
              <a:alpha val="53000"/>
            </a:srgbClr>
          </a:solidFill>
          <a:ln w="9360">
            <a:solidFill>
              <a:srgbClr val="000000">
                <a:alpha val="90000"/>
              </a:srgbClr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NT HOW NAMY NUMBERS ARE POSI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def listPositiveCount(a)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n = len(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initialise cou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count =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traverse the li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for i in range(n)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if a[i] &gt; 0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count = count 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end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endf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return cou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ahoma"/>
              </a:rPr>
              <a:t># end listProdu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 a [a[0], a[1], …, a[n-1]] is a list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x(a)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maximum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in(a) 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minimum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m(a) 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the sum of the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about list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tions in Pyth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ython program is a sequence of a functions which can be execu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Function = Routine = Procedure = Method = Solution for a sub-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ython function is written once and used/called as many times as n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def function_name(arg1, arg2,…):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s to find the outpu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return outpu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1. function_name is the name of the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2. arg1, arg2,…are the function arguments (usually the inpu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3. the function body must find the output and return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403280" y="3429000"/>
            <a:ext cx="3097440" cy="1008000"/>
          </a:xfrm>
          <a:prstGeom prst="rect">
            <a:avLst/>
          </a:prstGeom>
          <a:solidFill>
            <a:srgbClr val="bf9900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s to work with func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1. Define these functions you want to work wi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Start from the arguments as inpu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Give the sequence of statements to construct the output 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Return the output 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2. Call a function at any time you ne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The call is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function_name(a1,a2,…)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and returns a value that can b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- a1, a2,… are the actual/current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Actual arguments are NOT change after the call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ven if they change in th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lists represent sequence of [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imilar]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ele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between [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separated by 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which are i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ndexed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[ ] </a:t>
            </a:r>
            <a:r>
              <a:rPr b="1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represents lists / array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x = [1, 2, 3, 1, 0] </a:t>
            </a:r>
            <a:r>
              <a:rPr b="0" lang="en-I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 list of 5 int numb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name = [‘s’, ’a’, ’b’, ’i’, ’n’] </a:t>
            </a:r>
            <a:r>
              <a:rPr b="0" lang="en-I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 list of 5 string ele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list = [1, 2, ‘sabin’, [0, 1, 3]] </a:t>
            </a:r>
            <a:r>
              <a:rPr b="0" lang="en-I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 list with elements of different nat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Index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lists elements can be indexed using indices 0, 1, 2, 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list l with n elements has the elements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[0], l[1], l[2],…, l[n-1]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 represents the list while l[i] is an element of the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he first element of the list is indexed with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it is possible to have negative index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For a list l, the number of elements is given by the function le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len(l) </a:t>
            </a:r>
            <a:r>
              <a:rPr b="0" lang="en-I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number of elements in l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ANY COMPUTATION WITH ARRAYS MUST USE THE LOOP FOR.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Slic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lists can be sliced indices using a range introduced by ‘:’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list l with n elements has the elements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[0], l[1], l[2],…, l[n-1]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licing Typ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i1 : i2]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the elements between i1 and i2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i1:] 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the elements from index i1 to the e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:i2] 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elements from 0 to i2-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:]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with all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[::-1]  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 list in reverse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Oper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 opera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1 + list2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concatenates the lists.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1 * nr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list1 clones nr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lem in list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ests if elem is i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en(l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length of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max(l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maximum element of a list  min(l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minimum e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ist(sequence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converts the sequence to a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append(elem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appends elem to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insert(index, elem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inserts elem to the list at the specified inde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count(elem)  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counts how many times elem is in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l.index(elem) </a:t>
            </a:r>
            <a:r>
              <a:rPr b="0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returns the first index of elem in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23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rays / Lists Traversal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ANY COMPUTATION WITH  LIST MUST USE THE LOOP FOR.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ays to traverse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1) Traverse the list as it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2) Traverse the list ele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3851280" y="2492280"/>
            <a:ext cx="4233960" cy="155700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elem in 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process 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85480" y="4581360"/>
            <a:ext cx="4184280" cy="192276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 = len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process the element l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 a Li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uppose that we need a list with n int el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ad the number of elements in th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read n elements using a for loo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his scheme will work for any programming langua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771640" y="2852640"/>
            <a:ext cx="4753080" cy="2288520"/>
          </a:xfrm>
          <a:prstGeom prst="rect">
            <a:avLst/>
          </a:prstGeom>
          <a:solidFill>
            <a:srgbClr val="ff6600">
              <a:alpha val="4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 = int(input(‘’n=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 =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or i in range(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lem = int(inpu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.append(e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6:35:22Z</dcterms:created>
  <dc:creator>TSG</dc:creator>
  <dc:description/>
  <dc:language>en-US</dc:language>
  <cp:lastModifiedBy>cssg</cp:lastModifiedBy>
  <cp:lastPrinted>2001-09-10T14:34:36Z</cp:lastPrinted>
  <dcterms:modified xsi:type="dcterms:W3CDTF">2017-01-06T12:24:42Z</dcterms:modified>
  <cp:revision>47</cp:revision>
  <dc:subject/>
  <dc:title>CSCI-455</dc:title>
</cp:coreProperties>
</file>