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FF84-7A93-415A-96A1-86BE71E27A5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C897-1A3E-467E-A9DA-60146C790B4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37F4-388B-42F9-A8F2-8023716F1B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862A-E2C9-4246-A09C-3A9B9367C8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D15D-776F-4D57-A986-95FC621FE1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EE24-999A-4683-AA52-64926C17D7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0C51-E8A8-4DAE-87F4-BCF0D56990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A099-7E18-4747-87EA-9F9BB0B732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4828-69D2-49C1-9230-A9E1C36554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A94F-8ECD-4685-9E78-54D0AE16A6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7763-70C3-447B-A4DE-4E2506C04E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7347-38D8-4FC1-A6A9-4F8576EE2F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721D-F5EF-404E-B2C0-E8934672C8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DC10-C591-4170-8150-AA106A44EE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0440-6056-4509-B52A-1D2EBD428D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EA7C-C3F8-4F56-B6B8-A5E132118D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3D5B-2A3E-41FF-A4A0-E339840D08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5D12-3A0A-421D-899D-4D624C0FA69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4F4A-ECDA-4D92-AF3E-0BCEBDF1BA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BD53-063E-4900-8839-79376EAAB2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C1EC-5D34-4F5D-961C-085AEF5734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8B95-C6AE-4162-9690-9A8EE8F830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0827-B1E2-4012-9728-2329278EE9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DC7B-5B8E-422C-8671-5D9035686E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9835-B268-4173-939D-9C99C485FA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33B5-1AD6-42E4-A2C9-9741AF19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650-27A4-4ACC-B2FE-805DFCB0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E312-4FEB-4AB6-803D-5E77EC6E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C95D-82FB-4D16-9441-CD66059F5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3D26-94F1-42D7-B691-7EC1E38C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EF66-CA90-403D-8433-E104E2FD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7047-D5F9-46D7-AB87-57106CF9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AD0A-C856-4FA3-99DE-6CA89B56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48CA-801C-437A-9AB0-C9B7D91B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F4F0-A806-402D-ACF7-FAB6AFD6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B99E-E4A0-4BA9-96C0-30A42954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E46E-7731-4B79-B9A6-BAE67F87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825C-6DBD-4FD4-92EE-59CCB1F1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F69C-A0ED-40B6-B1BF-2B75BE7F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7CD5-0064-45EE-86B2-C5B9A711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8112-EA3D-4F26-A679-D7F019FD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DCC3-7629-4740-8B66-417D5BD8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01CE-CEB5-4608-9B36-B6AB005C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A58E-F541-42CE-866E-3348E0FF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7454-BDB5-4C0A-90DE-A49CEEA7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A04B-DFA4-4930-A1C7-D16DD9C8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7FDD-439A-4EEB-84EB-64498FA2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056-4251-4974-B254-F0A8F64D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AC4D-26E4-48C4-B447-9BE77E2B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8220-496A-4A65-BE97-0DAD0F2223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00B4-B039-4AE0-BD0F-2155C693C0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tutorialspoint.com/python/tk_button.htm" TargetMode="External"/><Relationship Id="rId2" Type="http://schemas.openxmlformats.org/officeDocument/2006/relationships/hyperlink" Target="https://www.tutorialspoint.com/python/tk_canvas.htm" TargetMode="External"/><Relationship Id="rId3" Type="http://schemas.openxmlformats.org/officeDocument/2006/relationships/hyperlink" Target="https://www.tutorialspoint.com/python/tk_checkbutton.htm" TargetMode="External"/><Relationship Id="rId4" Type="http://schemas.openxmlformats.org/officeDocument/2006/relationships/hyperlink" Target="https://www.tutorialspoint.com/python/tk_entry.htm" TargetMode="External"/><Relationship Id="rId5" Type="http://schemas.openxmlformats.org/officeDocument/2006/relationships/hyperlink" Target="https://www.tutorialspoint.com/python/tk_frame.htm" TargetMode="External"/><Relationship Id="rId6" Type="http://schemas.openxmlformats.org/officeDocument/2006/relationships/hyperlink" Target="https://www.tutorialspoint.com/python/tk_label.htm" TargetMode="External"/><Relationship Id="rId7" Type="http://schemas.openxmlformats.org/officeDocument/2006/relationships/hyperlink" Target="https://www.tutorialspoint.com/python/tk_listbox.htm" TargetMode="External"/><Relationship Id="rId8" Type="http://schemas.openxmlformats.org/officeDocument/2006/relationships/hyperlink" Target="https://www.tutorialspoint.com/python/tk_menubutton.htm" TargetMode="External"/><Relationship Id="rId9" Type="http://schemas.openxmlformats.org/officeDocument/2006/relationships/hyperlink" Target="https://www.tutorialspoint.com/python/tk_menu.htm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tutorialspoint.com/python/tk_message.htm" TargetMode="External"/><Relationship Id="rId2" Type="http://schemas.openxmlformats.org/officeDocument/2006/relationships/hyperlink" Target="https://www.tutorialspoint.com/python/tk_radiobutton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gramming Train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952720"/>
            <a:ext cx="7512120" cy="25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Poi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ython Turt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racta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4" descr="cslogo"/>
          <p:cNvPicPr/>
          <p:nvPr/>
        </p:nvPicPr>
        <p:blipFill>
          <a:blip r:embed="rId1"/>
          <a:stretch/>
        </p:blipFill>
        <p:spPr>
          <a:xfrm>
            <a:off x="990720" y="380880"/>
            <a:ext cx="281916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kinter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explan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80920" indent="-514080"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kinter module is imported fir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80920" indent="-514080"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ot = instance of Tk to create the UI fram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80920" indent="-514080"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 =  instance of Label for the parent root to hold the text Hello Tkint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80920" indent="-514080"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abel is then packed into ro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80920" indent="-514080"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ot.mainloop() deals with the frame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80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kinter - How to?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st way (procedural way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 the modules needed by the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the frame as instance of Tk(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ll the components needed in th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9160" indent="-49320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truct the compon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9160" indent="-49320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up some of their attrib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9160" indent="-49320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ve their position in the lay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ot.mainloop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idgets - Lab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 = box to display/change a text or an im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66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abel = Label ( master, option, ... 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s refer to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66840">
              <a:spcBef>
                <a:spcPts val="499"/>
              </a:spcBef>
              <a:buClr>
                <a:srgbClr val="ffcc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mension, color,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66840">
              <a:spcBef>
                <a:spcPts val="499"/>
              </a:spcBef>
              <a:buClr>
                <a:srgbClr val="ffcc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ipulating the text or the im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xt, im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xt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variable is needed for manipulating the label tex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b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22200" y="2060640"/>
            <a:ext cx="8821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idgets - Ent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763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ry = Widget to manipulate a single line of tex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66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ntry = Entry ( master, option, ... 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s refer to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mension, color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ipulating the text by textvari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w to define an echo charac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ivar methods for entry text manipul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gets all the charac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(first, last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eletes from first to las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ert(index, wor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serts word at the index 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366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t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677080" cy="432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5867280" y="2852640"/>
            <a:ext cx="205740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idgets - Butt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763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ton = display a text or image and to react to a click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66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utton = Button ( master, option, ... 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s refer to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66840">
              <a:spcBef>
                <a:spcPts val="451"/>
              </a:spcBef>
              <a:buClr>
                <a:srgbClr val="ffcc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mension, color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366840">
              <a:spcBef>
                <a:spcPts val="451"/>
              </a:spcBef>
              <a:buClr>
                <a:srgbClr val="ffcc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and to set the callback fun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ivar methods for entry text manipul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23920" indent="-457200">
              <a:spcBef>
                <a:spcPts val="451"/>
              </a:spcBef>
              <a:buClr>
                <a:srgbClr val="ffcc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ash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utton will flash between 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23920" indent="-457200">
              <a:spcBef>
                <a:spcPts val="451"/>
              </a:spcBef>
              <a:buClr>
                <a:srgbClr val="ffcc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oke(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xplicit call of the button collb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366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utt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393840" y="1484280"/>
            <a:ext cx="8296200" cy="5191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867280" y="2114640"/>
            <a:ext cx="250848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idgets - Listbox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763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box = widget to display a (long) list of items from which we can selec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66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st= Listbox( master, option, ... 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s refer to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mension, color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lectmode gives how we can select the items from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G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ne item to select when cli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ROWS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ne item to select that drags with the mou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selection by toggling item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idgets - Listbox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763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ts of functions to manage the listbox and its se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 the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ze(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number of items in listbo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(first, last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elete all items between the specified first and la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ert(index, *items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sert the items from inde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rselection()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the tuple with the selected indic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934640"/>
            <a:ext cx="769608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Week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kinter for GUI Interfa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examp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idgets - Listbox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763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box-es are created usually from array of items using a for lo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stbox = Listbox(roo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ems = [“item0”, “item1”, “item2”, “item3”, “item4”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item in item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stbox.insert(END, ite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box-es do not have command however we can bind with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stbox.bind("&lt;&lt;ListboxSelect&gt;&gt;", self.onSelec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7631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026200" cy="6310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6581880" y="214200"/>
            <a:ext cx="253980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1 - Conver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763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er Euro to Dolla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dgets: 2 Label-s, 2 Entry-s and 2 Button-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itional 2 StringVar to manipulate the Entry tex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widgets with a simple grid geomet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back functions for the button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6248520" y="0"/>
            <a:ext cx="28954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2 – Turtle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763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to control drawing Turtle figu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gets to work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476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2 Label-s, 2 Entry-s for the figure order and length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476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Additional 2 StringVar to manipulate their text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476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A button clear to reset everything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476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ome widgets, maybe buttons, to draw the required fracta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828800" y="5105520"/>
            <a:ext cx="548640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o do List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olve the HW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Read more about the Tkinter module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kinter Over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widgets designed by John K. Ousterhout, 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kinter == Tool Kit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o be driven by Tcl (Toolkit Control Langua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kinter is the Python Tcl/T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y easy to use with few UI class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ways to manage the layout geome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way to deal with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kinter Over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gets to work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2590920"/>
          <a:ext cx="8610480" cy="4270320"/>
        </p:xfrm>
        <a:graphic>
          <a:graphicData uri="http://schemas.openxmlformats.org/drawingml/2006/table">
            <a:tbl>
              <a:tblPr/>
              <a:tblGrid>
                <a:gridCol w="2384280"/>
                <a:gridCol w="6226200"/>
              </a:tblGrid>
              <a:tr h="37440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 u="sng">
                          <a:solidFill>
                            <a:srgbClr val="996633"/>
                          </a:solidFill>
                          <a:uFillTx/>
                          <a:latin typeface="Verdana"/>
                          <a:ea typeface="ＭＳ 明朝"/>
                          <a:hlinkClick r:id="rId1"/>
                        </a:rPr>
                        <a:t>Butt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he Button widget is used to display buttons in your applic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 u="sng">
                          <a:solidFill>
                            <a:srgbClr val="996633"/>
                          </a:solidFill>
                          <a:uFillTx/>
                          <a:latin typeface="Verdana"/>
                          <a:ea typeface="ＭＳ 明朝"/>
                          <a:hlinkClick r:id="rId2"/>
                        </a:rPr>
                        <a:t>Canv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he Canvas widget is used to draw shapes, such as lines, ovals, polygons and rectangles, in your applic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 u="sng">
                          <a:solidFill>
                            <a:srgbClr val="996633"/>
                          </a:solidFill>
                          <a:uFillTx/>
                          <a:latin typeface="Verdana"/>
                          <a:ea typeface="ＭＳ 明朝"/>
                          <a:hlinkClick r:id="rId3"/>
                        </a:rPr>
                        <a:t>Checkbutt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he Checkbutton widget is used to display a number of options as checkboxes. The user can select multiple options at a tim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 u="sng">
                          <a:solidFill>
                            <a:srgbClr val="996633"/>
                          </a:solidFill>
                          <a:uFillTx/>
                          <a:latin typeface="Verdana"/>
                          <a:ea typeface="ＭＳ 明朝"/>
                          <a:hlinkClick r:id="rId4"/>
                        </a:rPr>
                        <a:t>Entr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he Entry widget is used to display a single-line text field for accepting values from a us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 u="sng">
                          <a:solidFill>
                            <a:srgbClr val="996633"/>
                          </a:solidFill>
                          <a:uFillTx/>
                          <a:latin typeface="Verdana"/>
                          <a:ea typeface="ＭＳ 明朝"/>
                          <a:hlinkClick r:id="rId5"/>
                        </a:rPr>
                        <a:t>Fra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he Frame widget is used as a container widget to organize other widge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 u="sng">
                          <a:solidFill>
                            <a:srgbClr val="996633"/>
                          </a:solidFill>
                          <a:uFillTx/>
                          <a:latin typeface="Verdana"/>
                          <a:ea typeface="ＭＳ 明朝"/>
                          <a:hlinkClick r:id="rId6"/>
                        </a:rPr>
                        <a:t>Lab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he Label widget is used to provide a single-line caption for other widgets. It can also contain imag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40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 u="sng">
                          <a:solidFill>
                            <a:srgbClr val="996633"/>
                          </a:solidFill>
                          <a:uFillTx/>
                          <a:latin typeface="Verdana"/>
                          <a:ea typeface="ＭＳ 明朝"/>
                          <a:hlinkClick r:id="rId7"/>
                        </a:rPr>
                        <a:t>Listbo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he Listbox widget is used to provide a list of options to a us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 u="sng">
                          <a:solidFill>
                            <a:srgbClr val="996633"/>
                          </a:solidFill>
                          <a:uFillTx/>
                          <a:latin typeface="Verdana"/>
                          <a:ea typeface="ＭＳ 明朝"/>
                          <a:hlinkClick r:id="rId8"/>
                        </a:rPr>
                        <a:t>Menubutt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he Menubutton widget is used to display menus in your applic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 u="sng">
                          <a:solidFill>
                            <a:srgbClr val="996633"/>
                          </a:solidFill>
                          <a:uFillTx/>
                          <a:latin typeface="Verdana"/>
                          <a:ea typeface="ＭＳ 明朝"/>
                          <a:hlinkClick r:id="rId9"/>
                        </a:rPr>
                        <a:t>Men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he Menu widget is used to provide various commands to a user. These commands are contained inside Menubutt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kinter Over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gets to work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2590920"/>
          <a:ext cx="8458200" cy="4084560"/>
        </p:xfrm>
        <a:graphic>
          <a:graphicData uri="http://schemas.openxmlformats.org/drawingml/2006/table">
            <a:tbl>
              <a:tblPr/>
              <a:tblGrid>
                <a:gridCol w="1828800"/>
                <a:gridCol w="6629400"/>
              </a:tblGrid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 u="sng">
                          <a:solidFill>
                            <a:srgbClr val="996633"/>
                          </a:solidFill>
                          <a:uFillTx/>
                          <a:latin typeface="Verdana"/>
                          <a:ea typeface="ＭＳ 明朝"/>
                          <a:hlinkClick r:id="rId1"/>
                        </a:rPr>
                        <a:t>Mess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he Message widget is used to display multiline text fields for accepting values from a us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 u="sng">
                          <a:solidFill>
                            <a:srgbClr val="996633"/>
                          </a:solidFill>
                          <a:uFillTx/>
                          <a:latin typeface="Verdana"/>
                          <a:ea typeface="ＭＳ 明朝"/>
                          <a:hlinkClick r:id="rId2"/>
                        </a:rPr>
                        <a:t>Radiobutt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he Radiobutton widget is used to display a number of options as radio buttons. The user can select only one option at a tim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Sc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he Scale widget is used to provide a slider widge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Scrollb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he Scrollbar widget is used to add scrolling capability to various widgets, such as list box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ex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he Text widget is used to display text in multiple li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oplev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he Toplevel widget is used to provide a separate window contain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08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Spinbo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The Spinbox widget is a variant of the standard Tkinter Entry widget, which can be used to select from a fixed number of val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PanedWind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A PanedWindow is a container widget that may contain any number of panes, arranged horizontally or verticall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marL="38160" indent="-38160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LabelFra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2525"/>
                          </a:solidFill>
                          <a:latin typeface="Verdana"/>
                          <a:ea typeface="ＭＳ 明朝"/>
                        </a:rPr>
                        <a:t>A labelframe is a simple container widget. Its primary purpose is to act as a spacer or container for complex window layou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d5d5d5"/>
                      </a:solidFill>
                    </a:lnL>
                    <a:lnR w="5760">
                      <a:solidFill>
                        <a:srgbClr val="d5d5d5"/>
                      </a:solidFill>
                    </a:lnR>
                    <a:lnT w="5760">
                      <a:solidFill>
                        <a:srgbClr val="d5d5d5"/>
                      </a:solidFill>
                    </a:lnT>
                    <a:lnB w="5760">
                      <a:solidFill>
                        <a:srgbClr val="d5d5d5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kinter Over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1784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widgets have some standard attributes to give the size, color, font, anchor, bitmaps etc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ension = various width, height, sizes of the wid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ressed in pixel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dth, height = required sizes for the wid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dx, pady = extra space the widgets asks f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rderwidth = the width of the border rectangle of the wid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kinter Over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widgets have some standard attributes to give the size, color, font, anchor, bitmaps etc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r = attributes for the background, foreground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or = given as string e.g. “white” of hexa-number “#ffffff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ground or bg for the widget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eground  or fg for the widget foregrou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ivebackground and activefore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foreground and disabledfore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kinter Over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686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geometry manager for the layout to organise widgets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id metho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dget takes a cell within a gr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ce metho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dget is position to some given coord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ck metho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dget is pack in the frame as it c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way to work 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dget.grid(row = 2, column = 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dget.pack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5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dget.place(x=100, y=2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kinter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381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5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55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662040" y="2540160"/>
            <a:ext cx="7972200" cy="2971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5334120" y="1098720"/>
            <a:ext cx="18032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6T17:50:39Z</dcterms:created>
  <dc:creator>Microsoft Office User</dc:creator>
  <dc:description/>
  <dc:language>en-US</dc:language>
  <cp:lastModifiedBy>Microsoft Office User</cp:lastModifiedBy>
  <cp:lastPrinted>2001-09-10T14:34:36Z</cp:lastPrinted>
  <dcterms:modified xsi:type="dcterms:W3CDTF">2016-12-16T18:09:21Z</dcterms:modified>
  <cp:revision>2</cp:revision>
  <dc:subject/>
  <dc:title>Programming Training</dc:title>
</cp:coreProperties>
</file>