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50FD-F951-4E6A-A6B4-2A883E141B6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06BA-8B6B-4845-B03E-7D93EE02D73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C334-374A-4CEF-8E15-15E54EEB2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B89-1012-4CA5-B601-7CBF17566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751B-4274-4EE3-AD98-63EDC2C9A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6965-2A6A-4C89-A8A2-329E8A4E9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1D9A-E747-43E0-9146-14D414702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A904-5771-4831-84CC-F24233FA1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14CA-A418-4650-A8E1-9855B175C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93C0-8F50-4DDE-B45F-1ACF7A149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6780-7952-48E8-A905-8EF729772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AEFF-2729-40EA-B1D9-E0FFEF74E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0FC8-4F55-4CBD-A5B3-9E27F7DD4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6A30-28D1-46B9-852C-D309A4861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65E5-536E-4501-98B3-A599CE4CD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2B3D-83BB-4093-BC70-2FC540355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544A-8FF3-492B-BAE6-2EBB75E4A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808E-8258-40FB-8D8B-B0EF3D12A0A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935D-F747-403D-826F-02DB855C2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C33-1B8F-4C0D-9DF6-BFDDF54C9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0CFA-3F84-47AC-A30B-290632599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51B7-F008-4DCF-8524-F89F5EA55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3B48-AEF2-44F8-8325-79D58DCC0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19AB-5765-4225-B0C2-F583009D3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12F8-885D-422F-B271-3B12881D4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350-24F5-4250-BFD9-2FE3B20E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7BD-A5FD-4836-9ABC-59989576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548-C5E6-48C1-9A9A-B901F54A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8E3-BA56-4755-99BD-9DC35B26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1021-161D-4472-92C0-E37BF145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DEAE-78F5-45A8-AA58-52B3F5BF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ACD3-ADAD-4EC2-9003-D7B0E18E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8753-6B78-40DF-AE2E-C029E5A8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37D3-8F69-4E86-9C25-1C5AE42D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9817-2F32-4DED-A10B-C91096E1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D80D-6F5E-4F9A-B3F5-022F0953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99E-B2F0-4E18-952D-E4F384BD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E69A-E0F0-431C-B782-C562587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DEBB-27ED-43F9-91B2-4AF3565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9CC5-85B5-431E-8087-D34E8E03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7CC0-8FF4-410F-B687-36917350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3066-8D00-4948-A7F4-37BE1DA2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F3C-7403-47F2-980B-8A75B286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E12-A80F-4880-B06B-53F4E5C9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6A3-39D7-4D39-A2C7-9CF7645F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D1A-7EC3-4136-BC28-B78870F0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1B8-F4F8-4EBD-83F0-CB2B1CC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DE3-C51F-44C3-9034-A2007B41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7A0-E20A-4A41-90A5-6931D76B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49F9-4AA9-48E2-B74D-74A776B35D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649E-F721-4F68-8622-1E6B550034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python/tk_button.htm" TargetMode="External"/><Relationship Id="rId2" Type="http://schemas.openxmlformats.org/officeDocument/2006/relationships/hyperlink" Target="https://www.tutorialspoint.com/python/tk_canvas.htm" TargetMode="External"/><Relationship Id="rId3" Type="http://schemas.openxmlformats.org/officeDocument/2006/relationships/hyperlink" Target="https://www.tutorialspoint.com/python/tk_checkbutton.htm" TargetMode="External"/><Relationship Id="rId4" Type="http://schemas.openxmlformats.org/officeDocument/2006/relationships/hyperlink" Target="https://www.tutorialspoint.com/python/tk_entry.htm" TargetMode="External"/><Relationship Id="rId5" Type="http://schemas.openxmlformats.org/officeDocument/2006/relationships/hyperlink" Target="https://www.tutorialspoint.com/python/tk_frame.htm" TargetMode="External"/><Relationship Id="rId6" Type="http://schemas.openxmlformats.org/officeDocument/2006/relationships/hyperlink" Target="https://www.tutorialspoint.com/python/tk_label.htm" TargetMode="External"/><Relationship Id="rId7" Type="http://schemas.openxmlformats.org/officeDocument/2006/relationships/hyperlink" Target="https://www.tutorialspoint.com/python/tk_listbox.htm" TargetMode="External"/><Relationship Id="rId8" Type="http://schemas.openxmlformats.org/officeDocument/2006/relationships/hyperlink" Target="https://www.tutorialspoint.com/python/tk_menubutton.htm" TargetMode="External"/><Relationship Id="rId9" Type="http://schemas.openxmlformats.org/officeDocument/2006/relationships/hyperlink" Target="https://www.tutorialspoint.com/python/tk_menu.htm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python/tk_message.htm" TargetMode="External"/><Relationship Id="rId2" Type="http://schemas.openxmlformats.org/officeDocument/2006/relationships/hyperlink" Target="https://www.tutorialspoint.com/python/tk_radiobutton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95272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oi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ython Turt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ract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990720" y="380880"/>
            <a:ext cx="2819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explan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kinter module is imported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 = instance of Tk to create the UI fra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 =  instance of Label for the parent root to hold the text Hello Tkin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bel is then packed into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.mainloop() deals with the frame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- How to?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way (procedural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 the modules needed by the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the frame as instance of Tk(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ll the components needed in th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9160" indent="-49320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uct the compon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9160" indent="-49320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up some of their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9160" indent="-49320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 their position in the lay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.mainlo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L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 = box to display/change a text or an im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bel = Label ( master, option, ...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refer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nsion, color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6684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ipulating the text or the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,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variable is needed for manipulating the label 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22200" y="2060640"/>
            <a:ext cx="8821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En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y = Widget to manipulate a single line of 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try = Entry ( master, option, ...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refer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mension, color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ipulating the text by text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 to define an echo charac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ivar methods for entry text manip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ets all the charac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(first, last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letes from first to las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(index, wor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serts word at the index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677080" cy="43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205740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Butt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ton = display a text or image and to react to a clic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utton = Button ( master, option, ...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refer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mension, color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6684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and to set the callback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ivar methods for entry text manip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3920" indent="-4572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ash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utton will flash between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23920" indent="-4572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oke(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xplicit call of the button coll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tt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393840" y="1484280"/>
            <a:ext cx="8296200" cy="5191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867280" y="2114640"/>
            <a:ext cx="25084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Listbo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box = widget to display a (long) list of items from which we can selec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= Listbox( master, option, ...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refer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mension, color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mode gives how we can select the items from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ne item to select when cli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OW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ne item to select that drags with the m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selection by toggling item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Listbo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s of functions to manage the listbox and its se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(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umber of items in list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(first, last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lete all items between the specified first and la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(index, *items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sert the items from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selection(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the tuple with the selected indi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34640"/>
            <a:ext cx="76960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eek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kinter for GUI Interf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examp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Listbo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box-es are created usually from array of items using a for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stbox = Listbox(roo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ems = [“item0”, “item1”, “item2”, “item3”, “item4”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item in item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stbox.insert(END, ite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box-es do not have command however we can bind with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stbox.bind("&lt;&lt;ListboxSelect&gt;&gt;", self.onSelec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026200" cy="6310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6581880" y="214200"/>
            <a:ext cx="2539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1 - Conver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er Euro to Dolla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dgets: 2 Label-s, 2 Entry-s and 2 Button-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itional 2 StringVar to manipulate the Entry 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widgets with a simple grid geomet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back functions for the butt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2 – Turtle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to control drawing Turtle fig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gets to work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2 Label-s, 2 Entry-s for the figure order and length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dditional 2 StringVar to manipulate their text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 button clear to reset everyth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ome widgets, maybe buttons, to draw the required fracta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828800" y="5105520"/>
            <a:ext cx="54864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more about the Tkinter modul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widgets designed by John K. Ousterhout, 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kinter == Tool Kit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o be driven by Tcl (Toolkit Control Langua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kinter is the Python Tcl/T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y easy to use with few UI clas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ways to manage the layout geome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way to deal with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gets to work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2590920"/>
          <a:ext cx="8610480" cy="4270320"/>
        </p:xfrm>
        <a:graphic>
          <a:graphicData uri="http://schemas.openxmlformats.org/drawingml/2006/table">
            <a:tbl>
              <a:tblPr/>
              <a:tblGrid>
                <a:gridCol w="2384280"/>
                <a:gridCol w="6226200"/>
              </a:tblGrid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1"/>
                        </a:rPr>
                        <a:t>Butt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Button widget is used to display buttons in your applic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2"/>
                        </a:rPr>
                        <a:t>Canv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Canvas widget is used to draw shapes, such as lines, ovals, polygons and rectangles, in your applic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3"/>
                        </a:rPr>
                        <a:t>Checkbutt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Checkbutton widget is used to display a number of options as checkboxes. The user can select multiple options at a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4"/>
                        </a:rPr>
                        <a:t>Ent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Entry widget is used to display a single-line text field for accepting values from a us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5"/>
                        </a:rPr>
                        <a:t>Fr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Frame widget is used as a container widget to organize other widge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6"/>
                        </a:rPr>
                        <a:t>Lab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Label widget is used to provide a single-line caption for other widgets. It can also contain ima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7"/>
                        </a:rPr>
                        <a:t>Listb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Listbox widget is used to provide a list of options to a us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8"/>
                        </a:rPr>
                        <a:t>Menubutt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Menubutton widget is used to display menus in your applic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9"/>
                        </a:rPr>
                        <a:t>Men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Menu widget is used to provide various commands to a user. These commands are contained inside Menubutt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gets to work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2590920"/>
          <a:ext cx="8458200" cy="4084560"/>
        </p:xfrm>
        <a:graphic>
          <a:graphicData uri="http://schemas.openxmlformats.org/drawingml/2006/table">
            <a:tbl>
              <a:tblPr/>
              <a:tblGrid>
                <a:gridCol w="1828800"/>
                <a:gridCol w="662940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1"/>
                        </a:rPr>
                        <a:t>Mess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Message widget is used to display multiline text fields for accepting values from a us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2"/>
                        </a:rPr>
                        <a:t>Radiobutt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Radiobutton widget is used to display a number of options as radio buttons. The user can select only one option at a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S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Scale widget is used to provide a slider widg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Scrollb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Scrollbar widget is used to add scrolling capability to various widgets, such as list box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Text widget is used to display text in multiple li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op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Toplevel widget is used to provide a separate window contain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Spinb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Spinbox widget is a variant of the standard Tkinter Entry widget, which can be used to select from a fixed number of val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PanedWind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A PanedWindow is a container widget that may contain any number of panes, arranged horizontally or verticall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LabelFr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A labelframe is a simple container widget. Its primary purpose is to act as a spacer or container for complex window layou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idgets have some standard attributes to give the size, color, font, anchor, bitmaps etc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ension = various width, height, sizes of the wid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ressed in pixe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th, height = required sizes for the wid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dx, pady = extra space the widgets asks f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rderwidth = the width of the border rectangle of the wid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widgets have some standard attributes to give the size, color, font, anchor, bitmaps etc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= attributes for the background, foreground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r = given as string e.g. “white” of hexa-number “#ffffff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ground or bg for the widget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eground  or fg for the widget foregr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ebackground and activefore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foreground and disabledfore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geometry manager for the layout to organise widgets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id metho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dget takes a cell within a gr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 metho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dget is position to some given coor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 metho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dget is pack in the frame as it 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way to work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get.grid(row = 2, column =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get.pack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get.place(x=100, y=2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381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662040" y="2540160"/>
            <a:ext cx="797220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334120" y="1098720"/>
            <a:ext cx="18032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6T17:50:39Z</dcterms:created>
  <dc:creator>Microsoft Office User</dc:creator>
  <dc:description/>
  <dc:language>en-US</dc:language>
  <cp:lastModifiedBy>Microsoft Office User</cp:lastModifiedBy>
  <cp:lastPrinted>2001-09-10T14:34:36Z</cp:lastPrinted>
  <dcterms:modified xsi:type="dcterms:W3CDTF">2016-12-16T18:09:21Z</dcterms:modified>
  <cp:revision>2</cp:revision>
  <dc:subject/>
  <dc:title>Programming Training</dc:title>
</cp:coreProperties>
</file>