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20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5600-C822-4054-9673-7FFF82CF986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6B43-314F-4118-BC52-027C904AC21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647-61B4-44B9-AD90-2D68206330B8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E11-81F1-4AEF-8874-E5239A95613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DA85-3389-4F9E-AE19-7563ED6EDEFA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A0F6-BB89-4575-A264-EBD54910969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1A735-C517-4ECE-A448-9CD418631C2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1A0C-5F13-4FD8-B3B4-198C8E34DC7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A1D3FA97-0D72-4616-BF9C-8896969A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5E05D42-6AE5-484E-B59B-36684A604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62D5DCA4-EB67-4CE4-954F-BE18ED72C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65D3AC1-8F0C-4B8D-A022-B5669F7ED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9318-48CB-48B0-A96E-FE379D7CE02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8EEAFB8B-58D1-47CA-983D-599E848E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7C7C74E7-3AE4-46A2-8EFA-E081CA2D3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22B9898-821E-4A31-A2EA-1EAA4A6A8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E3D5B33-86DF-4082-970F-3EAEF2D0B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2352C023-38F6-413A-BB8D-FDCB869B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C41D57E8-F65B-4735-9D52-E12441528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FE56CCA-C4A2-4D76-9E8A-9D656E3B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7ACA700-3DA9-4316-897F-6A55A99B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1F9605A1-1124-43F4-893E-EE4FA77C9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8C2-7ED4-4179-90EF-FBA98071806D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7D01-8F4D-4A3E-AB67-05D51481629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CA27-305E-4956-8C5D-372379AF124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4D20-5642-4CB5-96F7-793C954BE1B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92E-1AB6-4600-9EB1-A764907909F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610D7-7F0A-4FA5-B3DE-A777CDDFDBE5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5224-4C80-44B1-8175-79310B24AABF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CF5-ECFC-4818-864C-D3207D05CB40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E35F-8C48-402F-B00A-67FFA9C73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245-EBAA-4C63-989D-CFC98456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6C5-2438-4261-9AFF-1338C3E45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AD5-6754-4E51-AEEB-738C0552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925E-8916-43F1-B585-A1AFDD91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7D5EB-2F8A-4951-AB89-8DF13F16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4538-141C-472C-834E-B341BF73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C026-F703-42F3-BC26-CD0C828A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5A01-6589-47C6-830A-11AF49CC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B20D-3D55-4EAC-B5CA-61891CF9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C914-FE78-4252-BA57-72302461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D5A-4F23-4065-B31F-E2E6C224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11FB-3D40-463A-87C5-FC46BBA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B0F3-C156-4291-BE48-0CE501C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0553-AD36-4C96-8030-6757CCE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F9B7-0A8D-4307-9418-5DDDCA4D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94B6-4A1B-4B76-BE30-04682372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2ED-E0D4-4BE1-8159-94ABF063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9AE-61EB-4432-9711-0C82A655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31C7-8B86-4E93-B7A5-DEEA0D1A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0834-D840-4713-A6A1-6DE8FC80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6A3-07C2-46A3-B081-A40DFDB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977D-76EB-4709-9521-976A56E1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0CDB-20E9-4838-BCB7-C48EA166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ED2A-9EFB-4EC2-95AB-AB17EA2DDE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14ED-4D82-4AA3-A11E-90E195A1A2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gramming Train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952720"/>
            <a:ext cx="7512120" cy="25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Poi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ython Turt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racta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4" descr="cslogo"/>
          <p:cNvPicPr/>
          <p:nvPr/>
        </p:nvPicPr>
        <p:blipFill>
          <a:blip r:embed="rId1"/>
          <a:stretch/>
        </p:blipFill>
        <p:spPr>
          <a:xfrm>
            <a:off x="990720" y="380880"/>
            <a:ext cx="2819160" cy="9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 – Draw a Triang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and set some featur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 the triangle A(x1, y1)B(x2, y2)C(x3,y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the pen to A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AB using goto(x2, y2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BC using goto(x3, y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CA using goto(x1, y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5856120" y="2565360"/>
            <a:ext cx="3287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 – Draw a Random Circl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andom a new module to generate random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dom.randint(a,b)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enerate a random integer between a and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andom.random()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enerate a random float between [0, 1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ing a random cir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get a random radi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get a random color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get a random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draw the circ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rcRect l="0" t="0" r="2784" b="21115"/>
          <a:stretch/>
        </p:blipFill>
        <p:spPr>
          <a:xfrm>
            <a:off x="5796000" y="3141720"/>
            <a:ext cx="32734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urtle Random Art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76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evelop methods to draw random sha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ing few similar random shapes in your scre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raw 30 random circles + 20 random triang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716360" y="3284640"/>
            <a:ext cx="3816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Recursive Func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39640" y="1844640"/>
            <a:ext cx="849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Python function can call any known / seen function from the imported modules or from the f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 function is recursive when it calls itsel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mportant R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recursive method must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 termination step that solves directly the probl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Tahoma"/>
              </a:rPr>
              <a:t>- a recursion ste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76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Recursive Functio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539640" y="1844640"/>
            <a:ext cx="8496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bonacci sequence: 1, 1, 2, 3, 5, 8, 13, 2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ib(0) = fib(1) = 1 and fib(n) = fib(n-1)+ fib(n-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ef fib(n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# termination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f n== 0 or n==1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# 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fib(n-1) + fib(n-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# end f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888840" y="1700280"/>
            <a:ext cx="80852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. Define Recursively the figure F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Termination: give the shape of F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(point, line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Recursion: define F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based on F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2. Use a Turtle object to draw the fig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- The direction of the Turtle object must be preserv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tle Geometry represents the simplest way to construct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geometrical fracta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mportant Fractals: Trees, Koch’s curves, Sierpinski’s curves etc.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38360" y="549360"/>
            <a:ext cx="83865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cursive / Turtle Graphic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DFF18-3ABD-41C9-BB9E-99AE8EF53241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699920"/>
            <a:ext cx="80852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Binary Tree T(n,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is the order or ag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 is th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0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nary T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66708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618-D526-4435-B5F2-E880EFA86D51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43120" y="1180800"/>
            <a:ext cx="808488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Binary Tree T(n,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 is the order or age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 is the 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(0,l)= nothing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(n,l) is define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construct the tru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left 45 (PI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construct T(n-1,l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right 90 (PI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construct T(n-1,l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left 45 (PI/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go back at the root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343040" y="215640"/>
            <a:ext cx="480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nary T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Picture 12" descr=""/>
          <p:cNvPicPr/>
          <p:nvPr/>
        </p:nvPicPr>
        <p:blipFill>
          <a:blip r:embed="rId1"/>
          <a:stretch/>
        </p:blipFill>
        <p:spPr>
          <a:xfrm>
            <a:off x="4800600" y="2616120"/>
            <a:ext cx="48322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5A28-861A-4D4B-82BE-86030A5AD034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43040" y="215640"/>
            <a:ext cx="4800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Binary Tre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133880" cy="543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427640" y="1125360"/>
            <a:ext cx="45194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D263-DEFF-44E3-8352-8B0C066310C7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5440" y="156852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Fern Tree F(n,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- the order or the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 – the length of the cur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Fern F(n,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6" descr=""/>
          <p:cNvPicPr/>
          <p:nvPr/>
        </p:nvPicPr>
        <p:blipFill>
          <a:blip r:embed="rId1"/>
          <a:stretch/>
        </p:blipFill>
        <p:spPr>
          <a:xfrm>
            <a:off x="177840" y="3033720"/>
            <a:ext cx="4006800" cy="334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"/>
          <p:cNvPicPr/>
          <p:nvPr/>
        </p:nvPicPr>
        <p:blipFill>
          <a:blip r:embed="rId2"/>
          <a:stretch/>
        </p:blipFill>
        <p:spPr>
          <a:xfrm>
            <a:off x="4425840" y="3033720"/>
            <a:ext cx="471816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ython function = code to solve a probl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problem’s inputs are function’s argu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- problem’s outputs are calculated and returne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- function philosophy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write one and use multiple times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() </a:t>
            </a:r>
            <a:r>
              <a:rPr b="1" lang="en-I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IE" sz="1800" spc="-1" strike="noStrike">
                <a:solidFill>
                  <a:srgbClr val="000000"/>
                </a:solidFill>
                <a:latin typeface="Times New Roman"/>
              </a:rPr>
              <a:t> represents func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C196-3AD5-4077-AB79-9D9FEC49B215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58400" y="1181160"/>
            <a:ext cx="819324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Fern F(n,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- the order or the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 – the length of the cur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ern F(n,l) is a tree with 3 asymmetric branch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ern depen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raches angles and the branches trun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Fern F(n,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4" descr=""/>
          <p:cNvPicPr/>
          <p:nvPr/>
        </p:nvPicPr>
        <p:blipFill>
          <a:blip r:embed="rId1"/>
          <a:stretch/>
        </p:blipFill>
        <p:spPr>
          <a:xfrm>
            <a:off x="4054320" y="4869000"/>
            <a:ext cx="47008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C69C-36B9-4B29-8F9F-5050FAE379A5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77169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Fern F(n,l) is defined by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0,l) is a dot or no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(n,l) is recursively defined by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(0.3*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55; Construct F(n-1, l/2);Right 5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(0.7*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 40; Construct F(n-1, l/2); Left 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5; Construct F(n-1, 0.8*l); Righ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2*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Fern F(n,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3" descr=""/>
          <p:cNvPicPr/>
          <p:nvPr/>
        </p:nvPicPr>
        <p:blipFill>
          <a:blip r:embed="rId1"/>
          <a:stretch/>
        </p:blipFill>
        <p:spPr>
          <a:xfrm>
            <a:off x="3867120" y="0"/>
            <a:ext cx="52768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F19-C85D-401C-9E45-A4E5CDAD23C9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12800" y="1268280"/>
            <a:ext cx="771696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 fern(n,l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==0 or l&lt;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forward (0.3*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left(55); fern(n-1, l/2);pen.right(55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forward (0.7*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right(40); fern(n-1, l/2); pen.left(40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forward(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left(5); fern(n-1, 0.8*l); pen.right(5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.backward(2*l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Fern F(n,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1678-AA25-460A-B173-07C933901C14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58760" y="118116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Koch Curve K(n,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- the order or the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 – the length of the cur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Koch Cu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12" descr=""/>
          <p:cNvPicPr/>
          <p:nvPr/>
        </p:nvPicPr>
        <p:blipFill>
          <a:blip r:embed="rId1"/>
          <a:stretch/>
        </p:blipFill>
        <p:spPr>
          <a:xfrm>
            <a:off x="3914640" y="3122640"/>
            <a:ext cx="2318040" cy="26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2"/>
          <a:stretch/>
        </p:blipFill>
        <p:spPr>
          <a:xfrm>
            <a:off x="6438960" y="3152880"/>
            <a:ext cx="2400120" cy="2597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"/>
          <p:cNvPicPr/>
          <p:nvPr/>
        </p:nvPicPr>
        <p:blipFill>
          <a:blip r:embed="rId3"/>
          <a:stretch/>
        </p:blipFill>
        <p:spPr>
          <a:xfrm>
            <a:off x="1062000" y="3227400"/>
            <a:ext cx="26352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8CEE-19A7-450D-A4A8-79AC033B27FA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58760" y="118116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Koch Curve K(n,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- the order or the 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 – the length of the curv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(n,l) is defined as follow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Koch Curve K(n,l) is defined 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construct K(n-1,l/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left 60 (PI/3); construct K(n-1,l/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right 120 (2PI/3); construct K(n-1,l/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left 60 (PI/3); construct K(n-1,l/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Koch Cu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12" descr=""/>
          <p:cNvPicPr/>
          <p:nvPr/>
        </p:nvPicPr>
        <p:blipFill>
          <a:blip r:embed="rId1"/>
          <a:stretch/>
        </p:blipFill>
        <p:spPr>
          <a:xfrm>
            <a:off x="2070000" y="3962520"/>
            <a:ext cx="5276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0471-5B89-47BE-AF79-BA652C90C1E3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58760" y="118116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he snow flake F(n,k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construct K(n,l); left 120 (2PI/3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construct K(n,l); left 120 (2PI/3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construct K(n,l); left 120 (2PI/3)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(n,k) is an infinite curve bounding a finite area.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Koch Cu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4" descr=""/>
          <p:cNvPicPr/>
          <p:nvPr/>
        </p:nvPicPr>
        <p:blipFill>
          <a:blip r:embed="rId1"/>
          <a:stretch/>
        </p:blipFill>
        <p:spPr>
          <a:xfrm>
            <a:off x="1371600" y="3111480"/>
            <a:ext cx="5276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3F69-964B-4357-87FD-3321604FBF20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058760" y="118116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f koch(n, l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l&lt;2 or n==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.forward(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och(n-1,l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n.left(6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och(n-1,l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n.right(12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och(n-1,l/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en.left(6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och(n-1,l/3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# end ko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 Koch Curv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"/>
          <p:cNvSpPr/>
          <p:nvPr/>
        </p:nvSpPr>
        <p:spPr>
          <a:xfrm>
            <a:off x="4952160" y="1413000"/>
            <a:ext cx="383832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f flake(n, 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 in range(3)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och(n,l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.left(1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# 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# end fl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2BA-C2D7-47E0-89FC-41DF7FB01F8F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58760" y="1181160"/>
            <a:ext cx="7716960" cy="52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Sierpinski Curve S(n,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- the order or the 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 – the length of the curv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(n,l) is formed with 4 S(n-1,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ierpinski Curve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8" descr=""/>
          <p:cNvPicPr/>
          <p:nvPr/>
        </p:nvPicPr>
        <p:blipFill>
          <a:blip r:embed="rId1"/>
          <a:stretch/>
        </p:blipFill>
        <p:spPr>
          <a:xfrm>
            <a:off x="1701720" y="2913120"/>
            <a:ext cx="61340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7958-1461-4B33-91DA-0C3D91D20699}" type="slidenum">
              <a:rPr b="0" lang="en-US" sz="1400" spc="-1" strike="noStrike">
                <a:solidFill>
                  <a:srgbClr val="bfc3e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23640" y="1985760"/>
            <a:ext cx="7716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(0,l) is no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(n,l) is recursively def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S(n-1,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 45; Forward d; Right 4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S(n-1,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 90;Forward l; Left 90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S(n-1,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ght 45; Forward d; Right 45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cc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uct S(n-1,l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127040" y="164880"/>
            <a:ext cx="5016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Sierpinski Curve 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806560" y="-808200"/>
            <a:ext cx="6134400" cy="30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o do List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676160"/>
            <a:ext cx="7620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ve the HW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ead more about the turtle modul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creen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is a rectangle of pixels on which we can dra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screen origin is usually in the centr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pixel will have two coordinates which are float number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627280" y="2924280"/>
            <a:ext cx="44769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hat can turtles (as animals) do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Move forward or backwar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Turn left or right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Retreat the head into the shell.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Turtle-like Graphics Pens hav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x, y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give the turtle pen coordinate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dir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direction to go in radian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the pen’s status (pen=1 draws lin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Move and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or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forward for distance d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ackward(d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backward for distance on the direction to 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righ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righ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eft(angle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turns left with angle (degre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goto(x, y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moves to the point (x,y) drawing a li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dot(size, 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dot of specified size with the given col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ircle(radius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draws a circle with the specified radiu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p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up(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pen moves up so no draw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pendown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goes down so it can dra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width(w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sets the thickness of the li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colorname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pen color is set as color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olor(r, g, b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color is set based on the r, g, b valu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urtle – a Python module / library for draw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Function to Control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bgcolor(color)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– the screen background color is set to colo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clear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the screen is cleared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screensize()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– it returns the width and the height of the scre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508720" y="149400"/>
            <a:ext cx="5276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001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How to work with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a pen objec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 = Pen(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et the pen features like color, width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color(‘red’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width(3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ake you drawing using the move/draw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on Turtle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403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hat is the outcome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39996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788000" y="1557360"/>
            <a:ext cx="403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an be re writte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 in range(4)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forward(1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pen.left(9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6:35:22Z</dcterms:created>
  <dc:creator>TSG</dc:creator>
  <dc:description/>
  <dc:language>en-US</dc:language>
  <cp:lastModifiedBy>cssg</cp:lastModifiedBy>
  <cp:lastPrinted>2001-09-10T14:34:36Z</cp:lastPrinted>
  <dcterms:modified xsi:type="dcterms:W3CDTF">2016-12-09T14:12:02Z</dcterms:modified>
  <cp:revision>60</cp:revision>
  <dc:subject/>
  <dc:title>CSCI-455</dc:title>
</cp:coreProperties>
</file>