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49ED434-FF35-4E05-8FF0-A809A4C8925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BF12325-2D31-47BA-8F05-70C46EC3B4E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B0742BB-5DC0-4EBB-B1F3-819E526B557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E05739F-9ECC-47EC-BBDF-0B13897824A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A613BAF-91BF-481A-835E-87DCA6D4F59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14FCB33-3342-48BC-84DB-7B54F996657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B7982D8-5145-46E8-AFC6-2953FAA83AD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55BFFB6-EAB6-4A7C-A3E2-3CBA4D4D154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5731652-6E72-421C-8858-B20F22ECD7B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4D12832-8011-424B-98E6-931FFD9B82C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E68EE2D-9E78-40F8-9B6D-D709C3E4354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81E7FC3-C10C-4310-8050-5FA1D7E62E5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D01429C-6DFC-4C05-9DE0-49F91A30B02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2E2651D-A77B-4DB4-939F-9F8CBB1EE3F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1A32767-5E3E-4C1F-8DF7-3B3E4D7D211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CC919BA-2077-4D1D-94C5-4E9FB622619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528399F-4EBE-44FE-B362-59216023016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0EB67E8-D529-458A-ACFA-5CE719DD7FA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F120C81-B005-4AAC-B024-B64D68F03C0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3222D72-B7AB-446C-8E0A-22B4495D252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C5A-F06F-4F3B-A62A-A1E59373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B54-E37D-4574-A074-EE7B7098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B82-BA59-4455-9030-8D2DF45E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109-94AE-4B0B-B28E-C255AEFB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4724-DA2E-4AF9-BEFF-4C3AC79C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1580-DB34-444B-B564-B2A22DB3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8070-28E1-468C-8AD6-C55F7ABF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0518-714A-460F-A9C3-D0C98749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3AD4-F5AF-4E49-B762-3737941F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6850-386C-49A2-8A33-6A79922B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51BE-FE04-4F94-BCB2-585B97A3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484-3102-40E4-BD5D-40437F9C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E409-4CA7-4DD2-A1F6-0D76F309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B789-A4F1-4EB6-85F8-267B592F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FE0B-69E6-4C06-ADE6-D13C54F7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ACEE-6C09-4E27-AC5A-2AE3320D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504B-9CDF-438E-8B17-C58C18E2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A7B-0B70-4818-80A8-C3227778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66D-BD79-41CF-A17D-54A20028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C9B-35C8-4ADB-819A-06FCF37E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A69-E792-4E6D-B769-BEF7E25B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A4F-A00E-4516-A431-047EB28E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6F2-1D7F-4CB0-9E9D-8D584B5F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67F-5470-4C2D-9FCD-BB90F61B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E921-B43C-49EB-81AF-27A3B99F5E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9D03-0FF6-4FB8-BFFB-ED66CF957B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gramming Trai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952720"/>
            <a:ext cx="751212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oi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ython State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blems with sele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cslogo"/>
          <p:cNvPicPr/>
          <p:nvPr/>
        </p:nvPicPr>
        <p:blipFill>
          <a:blip r:embed="rId1"/>
          <a:stretch/>
        </p:blipFill>
        <p:spPr>
          <a:xfrm>
            <a:off x="990720" y="380880"/>
            <a:ext cx="281916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ving a triangle – Pseudo-co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Rectangle 3" descr=""/>
          <p:cNvPicPr/>
          <p:nvPr/>
        </p:nvPicPr>
        <p:blipFill>
          <a:blip r:embed="rId1"/>
          <a:stretch/>
        </p:blipFill>
        <p:spPr>
          <a:xfrm>
            <a:off x="628560" y="1646280"/>
            <a:ext cx="7753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ving a triang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86240" cy="492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t">
            <a:normAutofit fontScale="89000"/>
          </a:bodyPr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# import modu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import mat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# define func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def solveTriangle()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# read inpu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a = float(input('a = '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b = float(input('b = '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c = float(input('c = '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# calculate the angles in radia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A = math.acos((b**2+c**2-a**2)/(2*b*c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B = math.acos((a**2+c**2-b**2)/(2*a*c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C = math.acos((a**2+b**2-c**2)/(2*a*b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# translate the angles in degre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degreeA = A*180/math.p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degreeB = B*180/math.p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degreeC = C*180/math.p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757760" y="1700280"/>
            <a:ext cx="4386240" cy="492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# calculate the perimeter and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per = a+b+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area = b*c*math.sin(A)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# print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print('Angles are: ', degreeA, degreeB, degre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print('Perimeter is: ', p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print('Area is: ', ar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# end solveTra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Comment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The results are displayed with too many decim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Monaco"/>
              </a:rPr>
              <a:t>round(value, decima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Statemen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statements give the flow of computation within a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imple stat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xpression; - to evaluate a Python express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lock - used to collect several statements in one blo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Jum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break - jumps outside of repeti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turn - gets outside of  functions/rout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e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imple if - selects an alternativ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complete if - selects from two altern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Block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everal lines which are identically indented form a blo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block always starts after ‘: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block is usually required 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unctions and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INDENTATION MUST BE SIMILA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084720" y="2071800"/>
            <a:ext cx="27925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tests - if statement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16000" y="1722240"/>
            <a:ext cx="2873160" cy="362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hoose between two cho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if test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else 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e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end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08000" y="1722600"/>
            <a:ext cx="251928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Select one ch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if tes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end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5894280" y="1722600"/>
            <a:ext cx="299880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hoose between multiple cho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if test1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choi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elif test2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 choi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elif test3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 choi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end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inimum of two number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39640" y="1916280"/>
            <a:ext cx="79930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Example: Find the maximum/minimum value of 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f a&lt;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ax=b; min=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ax=a; min=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# end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sting Operator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39640" y="1916280"/>
            <a:ext cx="79930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Relational Oper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&gt;, &gt;=, &lt;, &lt;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== is equal to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!= is not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Logical Oper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r and not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Use ( ) to make complex test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x of 4 number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756144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Given for integer numbers a, b, c, d th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calculate the maximum value of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Inputs: a, b, c, d –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Output: max – i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How to do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792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ad a, b, c, d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792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find max1 as the maximum of a and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792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find max2 as the maximum of c and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792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find max as the maximum of max1 and max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79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write max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5651640" y="765000"/>
            <a:ext cx="364788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st if three floats form a triangle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76197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Inputs: a, b, c – flo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Output: answ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How to do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ad a, b, c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if at least one is negative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if at least one number is too bi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419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 do Lis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ad more about if from the e-tutor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lve the HW problem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nt(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print(value1, value2,…) 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rint(“var = ”, var1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prints the text ‘var=‘ followed by the value of va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rint(‘Here is a text’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prints the text ‘Here is a text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put(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input() returns a str value which must be conve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r = inp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reads a str value for v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r = float(input(‘Input var: ’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write the text ‘Input var: ’, then reads a str and converts that to flo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r1, var2 = map(int, input(‘Input var1, var2’).split(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reads two values, split them into a list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then map the list values to var1, var2 as i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me ru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92720" y="1628280"/>
            <a:ext cx="4038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mport ma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def printFunction(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rint(‘\n\n**************\n\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 = int(input(‘a = ‘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b = int(input(‘b = ‘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 = a+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rint(‘c=‘, 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rint(‘\n\n**************\n\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80880" y="1828800"/>
            <a:ext cx="48769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ad an int variable v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r = int(input(‘var = ‘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rite a variable v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rint(‘var = ‘,v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rite a tex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rint(”My Text \n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rite a line of sta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rintf(”\n\n\n******** \n\n\n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5003640" y="549360"/>
            <a:ext cx="0" cy="575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 Arithmeti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rithmetic operato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+, -, *, /, 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% is the remainder of the integer divi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elational operato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&lt;, &gt;, &lt;=, &gt;=, ==, !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ogical: or, and,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re are several math functions in the math modu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math.sqrt(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math.sin(), math.cos(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math.asin(), math.acos()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to solve a probl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Find the inputs and outputs of the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sk yourself if you have done something simi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dentify the elements of the sol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ake a numerical example and see the changes of the variabl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Write the code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puts - Outpu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nputs are the elements / variables to start fr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95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Inputs must be r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5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Input can be arguments within func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Output(s) is represented by the problem resul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95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Outputs must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5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Outputs can be returned by a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Process of Solv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sk yourself if you have done something simi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olve the problem mathematicall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dentify the elements of the solu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reak the problem into small blocks that you know how 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Write functions / find snippets of code for each blo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ind the calculations / selections / repet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Write a pseudo-code in plain English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ving a triang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Rectangle 3" descr=""/>
          <p:cNvPicPr/>
          <p:nvPr/>
        </p:nvPicPr>
        <p:blipFill>
          <a:blip r:embed="rId1"/>
          <a:stretch/>
        </p:blipFill>
        <p:spPr>
          <a:xfrm>
            <a:off x="628560" y="1646280"/>
            <a:ext cx="7753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0:55:30Z</dcterms:created>
  <dc:creator>TSG</dc:creator>
  <dc:description/>
  <dc:language>en-US</dc:language>
  <cp:lastModifiedBy>cssg</cp:lastModifiedBy>
  <cp:lastPrinted>2001-09-10T14:34:36Z</cp:lastPrinted>
  <dcterms:modified xsi:type="dcterms:W3CDTF">2016-11-18T11:19:58Z</dcterms:modified>
  <cp:revision>50</cp:revision>
  <dc:subject/>
  <dc:title>CSCI-455</dc:title>
</cp:coreProperties>
</file>