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180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marL="216000"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5A05CF7-E979-45FF-ABBC-9D53E06872D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5782FF8-0950-47F8-800E-B7F10B4CB0E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8F88E64-4DDA-4F64-8329-00853603FC9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C14E23B-31D5-4653-99A8-015A070A0EF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2558D4D-AF9C-4067-B189-8618CDA0B3E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B38BF5C-DC46-4DCA-A984-6EE3352F71C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B5BC01E-E36A-4BF9-B543-A1826ADAC9F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88E3C94-1BFD-4C67-B656-C3D01A0B32F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9935648-85DF-4047-981F-7FF267F190A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B38198C-B42E-4626-8B76-25F17C30AAC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AC2CD43-7083-44FB-87A3-2BC7279D2B0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47BD513-7D59-49C7-87E0-6C5C153FADB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29B6715-4F89-4B82-9FD7-0DDECCAC42A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2C2D3B1-F21C-4071-B9B6-4D3C4F9FA40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E19C177-8198-408D-BF0E-0E1BA17A95E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A6F12D9-9FEE-4E9F-8F40-3D0D47B159A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B66CB51-34C3-45F1-9762-F09BE3910CF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1B9188C-87FA-49D2-9DCE-8411CF9C35C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4D8A684-3DE2-4D39-9AF5-EC884AD3C01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9378A59-1255-43F5-963A-2EA83417619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F6A-0E8F-4900-A185-406BC095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E018-3A68-404B-84D6-30143A21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BFF1-CE7E-4B15-B3C1-DC363A0F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4A6-D069-4824-BBCD-DD15850B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22E0-272E-496F-A7D0-F30FF5F4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B17A-BF94-49F8-8341-092759B2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FCAD-6A1C-445E-B131-4B1F5E0A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D6D7-0DD8-46E9-966A-8C52D587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5357-E0F7-4F7D-96F9-E3C5EF7A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06CB-6FE2-48FD-95C2-810B1EDA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1982-565B-47F3-8874-03E20B89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A0F7-82F0-4D23-8985-E85E7875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9708-3DBF-436A-B0FA-5A42B7EF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A92C-1E68-44DD-BF0A-689D34B0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51D8-469A-4F64-958B-698F619E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004E-5D5F-4846-9414-AB2FF8A3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608F-1036-4C35-918A-D6374E64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2D8-4DC5-4313-860E-344BC6B3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0939-8BCC-4A76-8DFB-2CBC5A1E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659B-F5D8-4899-845F-4E4506F6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CDFC-D06D-4BCF-ADD9-27CF6B2C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DF08-1739-4979-ACA5-EFECD42B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01D3-EDD5-4002-89A9-CE9C52C6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94E5-F565-4BC3-985B-92B2EDEA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D482-3063-4D6C-9F6C-B8319D7EF6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926E-86B8-4892-BEC6-7C72AE374A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gramming Train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952720"/>
            <a:ext cx="7512120" cy="25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Poi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ython Statem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oblems with sele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4" descr="cslogo"/>
          <p:cNvPicPr/>
          <p:nvPr/>
        </p:nvPicPr>
        <p:blipFill>
          <a:blip r:embed="rId1"/>
          <a:stretch/>
        </p:blipFill>
        <p:spPr>
          <a:xfrm>
            <a:off x="990720" y="380880"/>
            <a:ext cx="281916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lving a triangle – Pseudo-cod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Rectangle 3" descr=""/>
          <p:cNvPicPr/>
          <p:nvPr/>
        </p:nvPicPr>
        <p:blipFill>
          <a:blip r:embed="rId1"/>
          <a:stretch/>
        </p:blipFill>
        <p:spPr>
          <a:xfrm>
            <a:off x="628560" y="1646280"/>
            <a:ext cx="77533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lving a triang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86240" cy="492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t">
            <a:normAutofit fontScale="89000"/>
          </a:bodyPr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# import modu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import mat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# define func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def solveTriangle()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# read inpu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a = float(input('a = ')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b = float(input('b = ')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c = float(input('c = ')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# calculate the angles in radia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A = math.acos((b**2+c**2-a**2)/(2*b*c)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B = math.acos((a**2+c**2-b**2)/(2*a*c)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C = math.acos((a**2+b**2-c**2)/(2*a*b)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# translate the angles in degre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degreeA = A*180/math.p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degreeB = B*180/math.p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degreeC = C*180/math.p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757760" y="1700280"/>
            <a:ext cx="4386240" cy="492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# calculate the perimeter and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per = a+b+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area = b*c*math.sin(A)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# print 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print('Angles are: ', degreeA, degreeB, degre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print('Perimeter is: ', p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print('Area is: ', are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# end solveTrai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Comment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3821"/>
                </a:solidFill>
                <a:latin typeface="Monaco"/>
              </a:rPr>
              <a:t>The results are displayed with too many decim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Monaco"/>
              </a:rPr>
              <a:t>round(value, decima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Statement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statements give the flow of computation within a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imple stat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expression; - to evaluate a Python express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block - used to collect several statements in one blo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Jum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break - jumps outside of repetit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return - gets outside of  functions/routi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e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imple if - selects an alternativ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complete if - selects from two altern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Block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everal lines which are identically indented form a blo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block always starts after ‘: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block is usually required i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unctions and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Times New Roman"/>
              </a:rPr>
              <a:t>INDENTATION MUST BE SIMILAR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084720" y="2071800"/>
            <a:ext cx="27925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tests - if statement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916000" y="1722240"/>
            <a:ext cx="2873160" cy="362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Choose between two choi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if test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block of 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…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else 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block of e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…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end 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08000" y="1722600"/>
            <a:ext cx="251928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Select one cho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if tes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block of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end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5894280" y="1722600"/>
            <a:ext cx="2998800" cy="48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Choose between multiple cho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if test1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block of choi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elif test2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block of  choi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…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elif test3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block of  choi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statement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     …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Times New Roman"/>
              </a:rPr>
              <a:t># end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inimum of two number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539640" y="1916280"/>
            <a:ext cx="79930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Example: Find the maximum/minimum value of 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f a&lt;b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ax=b; min=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ax=a; min=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# end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sting Operator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539640" y="1916280"/>
            <a:ext cx="79930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Relational Opera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&gt;, &gt;=, &lt;, &lt;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== is equal to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!= is not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Logical Opera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or and not</a:t>
            </a: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Use ( ) to make complex test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x of 4 number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756144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Given for integer numbers a, b, c, d th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calculate the maximum value of th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Inputs: a, b, c, d –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Output: max – i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How to do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792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ad a, b, c, d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792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find max1 as the maximum of a and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792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find max2 as the maximum of c and 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792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find max as the maximum of max1 and max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79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write max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5651640" y="765000"/>
            <a:ext cx="364788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st if three floats form a triangle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412640"/>
            <a:ext cx="76197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Inputs: a, b, c – flo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Output: answ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How to do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ad a, b, c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if at least one is negative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if at least one number is too bi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572000" y="1484280"/>
            <a:ext cx="4419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 do List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ead more about if from the e-tutor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lve the HW problem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int(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print(value1, value2,…) </a:t>
            </a: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rint(“var = ”, var1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# prints the text ‘var=‘ followed by the value of va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rint(‘Here is a text’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# prints the text ‘Here is a text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put(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Times New Roman"/>
              </a:rPr>
              <a:t>input() returns a str value which must be conver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var = inpu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# reads a str value for v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var = float(input(‘Input var: ’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# write the text ‘Input var: ’, then reads a str and converts that to flo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var1, var2 = map(int, input(‘Input var1, var2’).split(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# reads two values, split them into a list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# then map the list values to var1, var2 as i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me rul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92720" y="1628280"/>
            <a:ext cx="40384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mport ma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def printFunction(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print(‘\n\n**************\n\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a = int(input(‘a = ‘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b = int(input(‘b = ‘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c = a+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print(‘c=‘, 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print(‘\n\n**************\n\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80880" y="1828800"/>
            <a:ext cx="487692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ead an int variable v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var = int(input(‘var = ‘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rite a variable v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rint(‘var = ‘,v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rite a tex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rint(”My Text \n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rite a line of sta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rintf(”\n\n\n******** \n\n\n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5003640" y="549360"/>
            <a:ext cx="0" cy="575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 Arithmeti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rithmetic operato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+, -, *, /, *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% is the remainder of the integer divi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Relational operato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&lt;, &gt;, &lt;=, &gt;=, ==, !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Logical: or, and,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re are several math functions in the math modu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math.sqrt(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math.sin(), math.cos(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math.asin(), math.acos()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 to solve a proble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Find the inputs and outputs of the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Ask yourself if you have done something simi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Identify the elements of the sol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Take a numerical example and see the changes of the variabl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Write the code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puts - Outpu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Inputs are the elements / variables to start fr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95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- Inputs must be re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95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- Input can be arguments within func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Output(s) is represented by the problem resul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95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- Outputs must be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95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- Outputs can be returned by a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Process of Solv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Ask yourself if you have done something simi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-60984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olve the problem mathematically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Identify the elements of the solu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-60984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Break the problem into small blocks that you know how 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-60984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Write functions / find snippets of code for each blo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-60984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Find the calculations / selections / repet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Write a pseudo-code in plain English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lving a triang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Rectangle 3" descr=""/>
          <p:cNvPicPr/>
          <p:nvPr/>
        </p:nvPicPr>
        <p:blipFill>
          <a:blip r:embed="rId1"/>
          <a:stretch/>
        </p:blipFill>
        <p:spPr>
          <a:xfrm>
            <a:off x="628560" y="1646280"/>
            <a:ext cx="77533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00:55:30Z</dcterms:created>
  <dc:creator>TSG</dc:creator>
  <dc:description/>
  <dc:language>en-US</dc:language>
  <cp:lastModifiedBy>cssg</cp:lastModifiedBy>
  <cp:lastPrinted>2001-09-10T14:34:36Z</cp:lastPrinted>
  <dcterms:modified xsi:type="dcterms:W3CDTF">2016-11-18T11:19:58Z</dcterms:modified>
  <cp:revision>50</cp:revision>
  <dc:subject/>
  <dc:title>CSCI-455</dc:title>
</cp:coreProperties>
</file>