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B123A25-8B58-4284-A196-DCA526C5318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E4D8AB8-CE85-417C-9A63-96E2407A85F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CE40C51-0686-4F4E-BD9B-A7EA64C6A70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DCC3760-E8D4-4802-B9CB-DDFB8F16F4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375402-15C0-454F-A5EE-345EF6E6A4F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6393748-FA1D-413F-8C69-23C679AB19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3988FE-7552-4AA1-B96D-3C9AD718ABE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86A9677-EDED-4605-B049-F24A1C76021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3ECFFD1-E9CF-45FD-B9CF-DCF6ECF7B64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967834D-069D-48E2-9109-339074FA67B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F2D9EF6-3444-4E92-A5ED-1B7288A4FF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582ED77-C6BE-4A24-ADC2-A94ABB13A1C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341CF36-9D27-49EA-8EB5-AA92E82F03D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36A1807-5C09-4B79-9E2B-1BE9954FFC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1F0739E-06D8-4E4E-A250-A652267FD2F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7326EBC-D209-4510-8E79-98689D32183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FE67465-93E1-4700-9C5F-868CDB33971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6443D67-3909-4AB1-9D38-50A92530067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39A4A90-90DA-4903-AE71-5F49442D67E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3CFA16E-7008-495D-9BE1-62C7A2F0B5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750-0C7A-405E-9ACC-45D112C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3A7-12F7-4F9C-8D44-42C1B74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A9A-B484-4B07-8EF1-9478C5E4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4C0-45CF-46B0-A6A2-F420D551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C088-B37C-42FD-85AB-CC63B063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1322-FF8E-432C-B1D8-46CAFA16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143-E244-46DA-B416-CE592794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305C-2821-45C5-8113-877AB01F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95B6-6F8D-407C-81C5-952BA7B8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BE9-7CDD-4BB0-8E97-D47541E4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F67-8C0C-45A2-AD80-3F0FA44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C62-E2F4-42FD-B71C-56EAE363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26AF-8081-4669-9BB5-D148E65B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DC4E-CB67-445A-B31F-4715040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D9A-1EE1-414C-A6F6-53127890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DCB6-AFED-4574-B6D1-AD85264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D022-6559-4653-AD9D-B19C3465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D5C-514F-4A38-A705-17EB8E6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148-C786-4800-A6D6-96E0F338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270-BD11-4B74-A101-8A5F6DA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727-4307-4E98-B07C-8E6EF892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D22-F6DF-42E3-9F37-D7C9B62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41F-9D16-4B08-8169-928D60D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13D-0F2C-4AA8-832A-52F66EB7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89B9-C224-4E1E-B6BA-2BE8F49516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C3F0-0F36-4AA9-8DEE-A2D4DD7E2D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nster 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78136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floa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float values are number with a decimal poin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float values are represented with “some exact decimal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 of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5832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a=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b=3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a, 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c=a//b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What is the nature of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280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6769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are Python identifies which carry a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 are all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s must be initialised / assign value befor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a+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 =100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2800440" cy="4334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214360" y="3284640"/>
            <a:ext cx="4437360" cy="192276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1, var2 = value1, valu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561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) is to print any value or variable from th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)       # prints the variabl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a,b,c) # prints the variables a,b,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hello python’) # prin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print(‘a=‘,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text ‘a=‘ then the value of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63640" y="2349360"/>
            <a:ext cx="39607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(var1, var2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4190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is to read from keyboard until press ‘enter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returns a string / text value with what it has ty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)    # read a value and assign it to 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=input(‘input value for a’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print the text and read the val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770120" y="2924280"/>
            <a:ext cx="5978520" cy="8254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= input(‘message to print before typ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67160" y="4708440"/>
            <a:ext cx="38768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alue Conver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920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() always returns a str val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is possible using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onverts value to the specified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a = ‘123’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a is a str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b = int(a)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b is an int variable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int(input(‘type the value of a; ’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067280" y="2325600"/>
            <a:ext cx="172224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95640" y="4581360"/>
            <a:ext cx="3313080" cy="45972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= type(input(‘var=‘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a Python program lik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248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ctions of a Python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mport libraries 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f functionName(a1,a2,…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ne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557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 Python program is made of some functions that can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566100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Any function can be called / executed on the interp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5148360" y="2023920"/>
            <a:ext cx="3838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Python program to solve the equation a*x**2 + b*x+c=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Variables: a, b, c 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utput Variables: x1, x2 as 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x1 = (-b + sqrt(b*b-4*a*c))/(2*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x2 = (-b - sqrt(b*b-4*a*c))/(2*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 with one fun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put a,b,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lculate x1, x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int x1, x2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78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0520" y="1557360"/>
            <a:ext cx="5324760" cy="518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345280" y="1530360"/>
            <a:ext cx="3867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Chapter 3 from the Python tu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Python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s a programming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communicates to the computers what to do “line after line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interprets each line from the natural language to the computer langu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solves various problems from scientific to enterta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hy Pyth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is simple, interpreted, procedural, object oriented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has impact in several areas … internet, networking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t can be used to solve scientific probl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Pyth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6707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UI tool to develop and interpret Python mod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wo different wind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r windows for exec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diting window for developing / writing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8440" y="3584520"/>
            <a:ext cx="475956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11760" y="3584520"/>
            <a:ext cx="4356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a Python Program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s are sequence of lines described in a “natural languag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key words e.g. def, import, if, for, range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dentifiers (names) for variables, methods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values for numbers or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se lines are written with a certain semant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ne action / statement per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Times New Roman"/>
              </a:rPr>
              <a:t>Use of indentation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Com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comments are lines that are not interpreted / exec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ments are for ourselves to give information / explanation about the cod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# make a line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 ’ ’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mething in between these represents a block comme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’’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block comment at the beginning of a method generates document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e can read it in the interpreter window as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Keywor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ywords are reserved word for Python statements, datatypes etc.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ata type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nt, float, str, et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tements: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if, while, for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se words cannot be used as user names / identifier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22360" y="3573360"/>
            <a:ext cx="74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dentifi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56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dentifiers are names for Python variables, function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ules to name an ident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only letters and digits 0-9 and _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start with a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use Python Key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is case sensitive so pay attention to letter capitali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olden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meaningful names formed with multiple 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rt the first word with low case letter and any subsequent word with capital e.g. solveEquation, profitRate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Valu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represent integer or real numbers, or text Python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eger) - sequence of digits e.g. 100, 0, 123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float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real numbers) - sequence of digits with a decimal point e.g. 1.0, 1.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ing of characters) or text – sequence of characters between ’ 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datatypes are int, float and st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lues can be used in Python expre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 int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885680"/>
            <a:ext cx="8640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nt values are integers between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147483648 to 214748364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use operators and brackets (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operators are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, -, *, / for the main arithmetical operation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for the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for the results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for the remainder of the integer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4-11-13T11:46:06Z</dcterms:modified>
  <cp:revision>40</cp:revision>
  <dc:subject/>
  <dc:title>CSCI-455</dc:title>
</cp:coreProperties>
</file>