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821035E-A7AE-4762-B5D4-3DBC2573830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5EB46C6-0CB1-484D-B8EA-63A557B084C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34FB4A9-20D1-4BA6-B1E3-07E8888D7E8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7F5EB62-43E2-49AB-B499-E7B82F447A2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DC41A26-C119-45FF-ADAA-3B7F2FFF63E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51C1992-01A6-4A70-B3C5-DF971E3741F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BF5CA26-35E2-41BF-A714-3ACBC04FD5D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F2EBAA0-5166-4479-B31C-0508A68DEC9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3A5907F-AE64-4520-9D44-EE31A1B611B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D2A83F5-A3CC-4476-90C9-532BC4DC0D5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92F6D21-8E2D-4A18-8A90-484419B6139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487140D-7CCB-416B-A5DB-E17BE0DA69F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B0500C4-A5AA-48A4-8B47-AE2419D0AB2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59A588D-5D63-4BA1-A26C-9902999CEC1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B7A46F1-7648-41D5-A56F-66208D3DCBA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2219C52-FACB-4E0C-AE9C-AC23E33C7E3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406BCFF-9643-4C55-A5B3-7D02341BD90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F99F2E0-820A-4420-9E11-C65D0548BE2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99864BB-7B68-48CF-BFE0-5DF8DB3474B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BC85F2F-6976-43EE-A584-B5F06087B6A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9F9-AA15-476B-8AE5-B7113343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908-8263-4CAF-94F9-4196FD5D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3D4-4221-4BCE-A95C-EC8C6FF0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D4CA-89DA-4D33-83C6-9C4654F1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BDB5-A0E6-43A0-8284-7C9370C2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8476-33A6-4059-9C43-DEF0646E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CD1D-B3AF-49B4-B755-85D4A1B5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3B7B-1E9C-44AC-B7BA-EADA255A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3F88-B9BA-4B7A-9756-A1E0A676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92CA-D32B-4C0D-8469-CA3EFA1D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1950-757A-403A-A649-96EBB7EB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D9A7-547E-4698-995C-16C00EAB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B95F-E28F-48E3-BDBA-924BC56F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C660-02D8-4965-B5B4-CCCEF522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D4EE-D88E-478F-924C-1E9ED928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9E06-E12E-4FBC-A7CB-ADB5BA0E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91C9-E7B9-4D42-8D66-44309B39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F3D4-EE24-4B57-A9E9-AD511181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5A9-B6AB-48CC-9717-88CDEC40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BB87-8817-4FDA-9D6B-359DEC15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4E0D-07F7-4464-B49F-92B40B5E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13AE-3504-4A0A-A6DD-9C168B34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7448-71D3-4E60-900D-0A831860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EAD-BF45-4445-B09F-6E2CCC59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72A5-CD22-4C51-B154-0AFA74B11B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6E09-CC17-4FA8-8FC2-0C4BA8DA07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unster Programming Train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781360"/>
            <a:ext cx="7512120" cy="25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cslogo"/>
          <p:cNvPicPr/>
          <p:nvPr/>
        </p:nvPicPr>
        <p:blipFill>
          <a:blip r:embed="rId1"/>
          <a:stretch/>
        </p:blipFill>
        <p:spPr>
          <a:xfrm>
            <a:off x="2340000" y="2997360"/>
            <a:ext cx="4464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ython float Express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640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float values are number with a decimal point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thon float values are represented with “some exact decimals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operators are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, -, *, / for the main arithmetical operation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for the ex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ample of Express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58323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a=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b=3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What is the nature of a, 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c=a/b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What is the nature of c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c=a//b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What is the nature of c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516720" y="1413000"/>
            <a:ext cx="28004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67690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 are Python identifies which carry a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, c are all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s must be initialised / assign value before u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a+b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 =100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2800440" cy="43340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2214360" y="3284640"/>
            <a:ext cx="4437360" cy="192276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assign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=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=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1, var2 = value1, valu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int(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75610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() is to print any value or variable from the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print(a)       # prints the variable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print(a,b,c) # prints the variables a,b,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print(‘hello python’) # print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print(‘a=‘, 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the text ‘a=‘ then the value of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763640" y="2349360"/>
            <a:ext cx="3960720" cy="82548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(v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(var1, var2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5148360" y="4076640"/>
            <a:ext cx="4190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7920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() is to read from keyboard until press ‘enter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 returns a string / text value with what it has typ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a=input()    # read a value and assign it to 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a=input(‘input value for a’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print the text and read the val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1770120" y="2924280"/>
            <a:ext cx="5978520" cy="82548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 = input(‘message to print before typing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67160" y="4708440"/>
            <a:ext cx="38768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Value Conver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7920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() always returns a str valu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is possible using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converts value to the specified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a = ‘123’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a is a str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b = int(a)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b is an int variable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int(input(‘type the value of a; ’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4067280" y="2325600"/>
            <a:ext cx="1722240" cy="45972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(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195640" y="4581360"/>
            <a:ext cx="3313080" cy="45972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= type(input(‘var=‘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a Python program like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4248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ections of a Python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mport libraries decla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unction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ef functionName(a1,a2,…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line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line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1557360"/>
            <a:ext cx="8351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Times New Roman"/>
              </a:rPr>
              <a:t>A Python program is made of some functions that can be exec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8360" y="5661000"/>
            <a:ext cx="8351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Times New Roman"/>
              </a:rPr>
              <a:t>Any function can be called / executed on the interpre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5148360" y="2023920"/>
            <a:ext cx="38383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57880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2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rite a Python program to solve the equation a*x**2 + b*x+c=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nput Variables: a, b, c flo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Output Variables: x1, x2 as flo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alcul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x1 = (-b + sqrt(b*b-4*a*c))/(2*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x2 = (-b - sqrt(b*b-4*a*c))/(2*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program with one fun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nput a,b,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alculate x1, x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rint x1, x2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5788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20520" y="1557360"/>
            <a:ext cx="5324760" cy="518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5345280" y="1530360"/>
            <a:ext cx="38671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 do List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ead Chapter 3 from the Python tutor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lve the HW problem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is Python?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5694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is a programming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t communicates to the computers what to do “line after line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t interprets each line from the natural language to the computer langu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t solves various problems from scientific to entertai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hy Pyth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t is simple, interpreted, procedural, object oriented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t has impact in several areas … internet, networking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t can be used to solve scientific proble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Pyth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670716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GUI tool to develop and interpret Python modu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wo different wind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terpreter windows for exec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Editing window for developing / writing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28440" y="3584520"/>
            <a:ext cx="4759560" cy="2284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811760" y="3584520"/>
            <a:ext cx="4356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is a Python Program?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5694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programs are sequence of lines described in a “natural language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hese line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com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key words e.g. def, import, if, for, range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identifiers (names) for variables, methods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values for numbers or 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expres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hese lines are written with a certain semant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One action / statement per 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0000"/>
                </a:solidFill>
                <a:latin typeface="Times New Roman"/>
              </a:rPr>
              <a:t>Use of indentation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ython Commen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5694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comments are lines that are not interpreted / execu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mments are for ourselves to give information / explanation about the cod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make a line com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’ ’ ’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omething in between these represents a block comment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’’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 block comment at the beginning of a method generates documenta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We can read it in the interpreter window as hel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Keywor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62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Keywords are reserved word for Python statements, datatypes etc.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ata types: </a:t>
            </a:r>
            <a:r>
              <a:rPr b="0" lang="en-IE" sz="2000" spc="-1" strike="noStrike">
                <a:solidFill>
                  <a:srgbClr val="ff0000"/>
                </a:solidFill>
                <a:latin typeface="Times New Roman"/>
              </a:rPr>
              <a:t>int, float, str, etc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atements: </a:t>
            </a:r>
            <a:r>
              <a:rPr b="0" lang="en-IE" sz="2000" spc="-1" strike="noStrike">
                <a:solidFill>
                  <a:srgbClr val="ff0000"/>
                </a:solidFill>
                <a:latin typeface="Times New Roman"/>
              </a:rPr>
              <a:t>if, while, for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se words cannot be used as user names / identifier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22360" y="3573360"/>
            <a:ext cx="7410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ython Identifi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5694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dentifiers are names for Python variables, function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ules to name an identifi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Use only letters and digits 0-9 and _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o not start with a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o not use Python Key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is case sensitive so pay attention to letter capitalis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Golden r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Use meaningful names formed with multiple wo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art the first word with low case letter and any subsequent word with capital e.g. solveEquation, profitRate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ython Valu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640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lues represent integer or real numbers, or text Python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lues can be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(eger) - sequence of digits e.g. 100, 0, 123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float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(real numbers) - sequence of digits with a decimal point e.g. 1.0, 1.2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(ing of characters) or text – sequence of characters between ’ 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datatypes are int, float and st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lues can be used in Python expres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ython int Express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640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int values are integers between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147483648 to 214748364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s use operators and brackets (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operators are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, -, *, / for the main arithmetical operation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for the ex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for the results of the integer div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for the remainder of the integer div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00:55:30Z</dcterms:created>
  <dc:creator>TSG</dc:creator>
  <dc:description/>
  <dc:language>en-US</dc:language>
  <cp:lastModifiedBy>cssg</cp:lastModifiedBy>
  <cp:lastPrinted>2001-09-10T14:34:36Z</cp:lastPrinted>
  <dcterms:modified xsi:type="dcterms:W3CDTF">2014-11-13T11:46:06Z</dcterms:modified>
  <cp:revision>40</cp:revision>
  <dc:subject/>
  <dc:title>CSCI-455</dc:title>
</cp:coreProperties>
</file>