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412B-EE7A-4041-8E72-1301DA53229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E333-FFF6-4634-88D5-2888CF4BEB84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2DC4-6C4F-4E6D-B730-22B2D189200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E81F-E1D1-4232-A5A9-1706C5F6764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F0B2-D0DE-4AA0-AE79-BC04E7FA2A7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9510-0905-43A7-99C9-7A759FB398F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421C-24C6-413D-81DB-45AE446F9C9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E5DB-4A12-4816-917B-3194B8C624A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1E4C-2BEC-43F5-9012-8650449FDE9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4921-BD48-47AA-B478-CC9D29CE33B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C03B-B2C1-45F6-BFD1-12E3C3E76FE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B645-BE34-45FA-98A1-BE83A16A51E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4C68-EA82-4379-8158-92406CC338A2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F3D2-0A51-4532-8BFC-30765233B7E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178C-B164-494C-B554-6F860D7B45E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3554-FDF4-45BE-9E80-E44C7B51E48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3080-3674-44BF-92AD-BE76C8D5BB6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DA3-44AC-46CC-BE5A-B27066E4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C764-09D2-4A7C-9455-5E6A911F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D00-A217-4FE7-9972-D28B2C90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DBB-B9ED-4D67-ADCC-4F24675D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0437-564E-4D60-B605-40E32D05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F357-FCD4-4E87-94E8-563A079F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1247-1ACE-4653-B8DE-ADC51D1F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84E0-0636-496F-8AC4-A97C5228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1A7-6E61-4B82-BA5D-2A3D6DA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C9B3-CFBE-4F9D-9CCD-A5E2462A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FCA2-0D77-4B8C-BA6E-27E76A2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A2DE-5D22-4285-9D88-D9FB2B47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066A-9C54-4927-AB2B-A4C5677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81E1-F853-4382-B0FE-C8BCE79A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62D5-C278-4C53-BE4B-63835376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2786-85AD-41F1-80B5-1672B8E5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6533-6987-46A2-A6F8-90076C2A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7654-455D-45BE-9A33-D0051FCE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466-DF46-42E2-95CC-A9214DFE2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E0F-5CAB-46AD-8F4F-B924468C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CBF-590B-49F4-9DF0-78F2F92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F77E-D8F2-4F8A-B6B1-4D885BCA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C42-5B0B-42D4-8AB4-AC81DFE0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363-285F-4D8D-A134-3DB2E756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482D-5AE4-4D58-9E2B-4A5E817630E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5698-F63D-46F4-A1B9-954D7084BE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ython.org/" TargetMode="External"/><Relationship Id="rId2" Type="http://schemas.openxmlformats.org/officeDocument/2006/relationships/hyperlink" Target="https://docs.python.org/3/tutorial/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Munster 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78136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2340000" y="2997360"/>
            <a:ext cx="4464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Environment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2184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hat do we need for the Python class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www.python.org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is the official python p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Tutorial from </a:t>
            </a:r>
            <a:r>
              <a:rPr b="0" lang="en-IE" sz="2000" spc="-1" strike="noStrike" u="sng">
                <a:solidFill>
                  <a:srgbClr val="996633"/>
                </a:solidFill>
                <a:uFillTx/>
                <a:latin typeface="Times New Roman"/>
                <a:hlinkClick r:id="rId2"/>
              </a:rPr>
              <a:t>https://docs.python.org/3/tutorial/index.html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ome other books you fancy from t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hat do we need to install for Pyth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ython 3.* installed on th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dle’ GUI tool installed on th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Idle To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67071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GUI tool to develop and interpret Python modu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wo different wind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erpreter windows for exec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-609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diting window for developing / writing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0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28440" y="3584520"/>
            <a:ext cx="4759560" cy="2284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11760" y="3584520"/>
            <a:ext cx="43560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Idle To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360" y="1916280"/>
            <a:ext cx="572436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nterpreter Window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any interpreting for python modu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mple or complicated maths calcul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mple or complicated string/text process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lay with variab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print using the print() fun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0" t="0" r="30997" b="-5475"/>
          <a:stretch/>
        </p:blipFill>
        <p:spPr>
          <a:xfrm>
            <a:off x="5508720" y="1844640"/>
            <a:ext cx="515916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Idle Too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547344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hat you are seeing in the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alculations with brackets ( ?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+, -, /, * for the basic arithmetical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** for the power ope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// is the result of integer divis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% is the remainder of integer divi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omething in between ‘ ’ or “ ”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abin’ is a string but Sabin is not </a:t>
            </a:r>
            <a:r>
              <a:rPr b="0" lang="en-IE" sz="1600" spc="-1" strike="noStrike">
                <a:solidFill>
                  <a:srgbClr val="ff0000"/>
                </a:solidFill>
                <a:latin typeface="Times New Roman"/>
              </a:rPr>
              <a:t>(see an erro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abin’ + ‘Says Hello’ </a:t>
            </a:r>
            <a:r>
              <a:rPr b="0" lang="en-IE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concatenates the string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e will see more during the la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30997" b="-5475"/>
          <a:stretch/>
        </p:blipFill>
        <p:spPr>
          <a:xfrm>
            <a:off x="5508720" y="1844640"/>
            <a:ext cx="515916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Variab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777708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variables are elements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Have an name (identifi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ust have val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alues identify their na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ules to name a variab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 only letters and digits 0-9 and _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start with a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o not use Python Key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ore on that so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59400" y="115920"/>
            <a:ext cx="459108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Variabl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6049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hat you se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variable called a with the value 1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variable b with the value of 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variable c with no value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ff0000"/>
                </a:solidFill>
                <a:latin typeface="Times New Roman"/>
              </a:rPr>
              <a:t>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variable sabin with the value ‘sabin’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 variable lecturerName with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6600"/>
                </a:solidFill>
                <a:latin typeface="Times New Roman"/>
              </a:rPr>
              <a:t>Spelling must be correct and cased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6600"/>
                </a:solidFill>
                <a:latin typeface="Times New Roman"/>
              </a:rPr>
              <a:t>Python is case-sensiti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6600"/>
                </a:solidFill>
                <a:latin typeface="Times New Roman"/>
              </a:rPr>
              <a:t>print() is a function that pr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4559400" y="115920"/>
            <a:ext cx="4591080" cy="59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stall Python your home/school compu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rite a Python function to print a funny 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6840" y="1699920"/>
            <a:ext cx="84358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give a short and basic introduction to computer programming, web design, web animation and video produ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foster interest in computers by encouraging young students to learn about programming at an early 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prepare them for programming competi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deliver a web design and video competitions for the Munster area. </a:t>
            </a:r>
            <a:br>
              <a:rPr sz="2400"/>
            </a:b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he plan is to ha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26 training sessions – Saturdays between 10 am – 1 p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participate in All Irish Programming Olympiad (AIPO) competi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PT competition for web design and video produc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carry on next year with Cycle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tructure of the day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ormal lecture between  10 and 11.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reak between 11.20 and 11.4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actical session between 11.40-13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Weekly homework – 2 programs to solv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ount Information P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r User Name = combination of your initials and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assword is automatically gener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 use this nam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log on the compu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hange the password to something simple to reca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urces – Your Accou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r account = Space on the CS Serv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og on the CS Domain with the username and passwor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 will see various uni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: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local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: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external C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z:</a:t>
            </a: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 your home ac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rganise your home account to fit your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abs </a:t>
            </a:r>
            <a:r>
              <a:rPr b="0" lang="en-I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to keep the work week by wee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ublic_html </a:t>
            </a:r>
            <a:r>
              <a:rPr b="0" lang="en-I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for your webp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s – Your Web Sp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Your account = web address: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ttp:// cs1.ucc.ie/~ab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ow to  access your web sp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go to your home account z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go to the folder public_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you have a file index.htm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the index page to what your web space cont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- soon you will develop mo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can we do with computer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699920"/>
            <a:ext cx="81788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puters are part of our li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mail, internet, chat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Entertaining: games, video, music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erious applications: banking, si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put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Keyboard, screen, mouse, main bo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in box = internal memory, external memory, processor, CD, 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mputer Softw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perating system: Windows, iOS, Linux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ols and applications: word, excel, IE browser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ow software is made? </a:t>
            </a: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PROGRAMMING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gramming languages?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rogramming langu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municate to computers what to exec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Give the code (instructions) in “English”-like wo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piled langu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mpile the code to generate a new code in “machine” words (0,1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Execute the compiled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erpreted language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Execute/Interpret the original code line after lin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, C++, C# are C based compiled languag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Java is a compiled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Javascript is an interpreted language for the web programm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ython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628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s an interpreted language very used in industry (Goog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’s name come from the Monty Python TV ser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programming language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Interpreted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execution takes place line after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ructured 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write functions / methods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bject Oriented </a:t>
            </a:r>
            <a:r>
              <a:rPr b="0" lang="en-IE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write our own cla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ython is very versatil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d in large scientific problems (bioinforma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Used in internet, networking, database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Python is now the language of choice for beginn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55:30Z</dcterms:created>
  <dc:creator>TSG</dc:creator>
  <dc:description/>
  <dc:language>en-US</dc:language>
  <cp:lastModifiedBy>cssg</cp:lastModifiedBy>
  <cp:lastPrinted>2001-09-10T14:34:36Z</cp:lastPrinted>
  <dcterms:modified xsi:type="dcterms:W3CDTF">2016-11-04T11:25:01Z</dcterms:modified>
  <cp:revision>41</cp:revision>
  <dc:subject/>
  <dc:title>CSCI-455</dc:title>
</cp:coreProperties>
</file>